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media10.mp4" ContentType="video/mp4"/>
  <Override PartName="/ppt/media/image11.png" ContentType="image/png"/>
  <Override PartName="/ppt/media/image9.png" ContentType="image/png"/>
  <Override PartName="/ppt/media/media8.mp4" ContentType="video/mp4"/>
  <Override PartName="/ppt/media/image19.png" ContentType="image/png"/>
  <Override PartName="/ppt/media/image21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2.png" ContentType="image/png"/>
  <Override PartName="/ppt/media/media12.mp4" ContentType="video/mp4"/>
  <Override PartName="/ppt/media/image13.png" ContentType="image/png"/>
  <Override PartName="/ppt/media/hdphoto1.wdp" ContentType="image/vnd.ms-photo"/>
  <Override PartName="/ppt/media/media6.mp4" ContentType="video/mp4"/>
  <Override PartName="/ppt/media/image17.png" ContentType="image/png"/>
  <Override PartName="/ppt/media/media16.mp4" ContentType="video/mp4"/>
  <Override PartName="/ppt/media/media4.mp4" ContentType="video/mp4"/>
  <Override PartName="/ppt/media/image15.png" ContentType="image/png"/>
  <Override PartName="/ppt/media/media14.mp4" ContentType="video/mp4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7AFA2E-9908-437C-A6AD-918F26F97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6.xml"/><Relationship Id="rId24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FFB884-C281-452A-8167-DA23DE8EC38D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751192D-50A3-4DEA-98B9-72C2B657009E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CC61165-C8B6-4571-A6A8-4EFCEF969524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0571A6E-0261-4761-A60B-F68FB13FC6C4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1AEC40A-BCF3-485C-B10D-BF97C58B1629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2EE2EE7-718D-429D-AD54-027456C79D7E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1A34A48-17D2-4CCE-87FB-DE5AD91A441A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EA9000B-C2B3-4588-8633-304D98906681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3AC9469-C93B-4FE7-9CD7-9C9EB589A50A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6D4D1A2-C419-44E2-AAB6-FAA8806A07C2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F0AD4AB-4442-4072-BB27-DEE6F9FD0167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ADBDDC8-0C33-459C-8A60-82D989425571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EB74788-44F2-46CC-86CA-273F2A625B0B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0020EE1-E31A-42E4-A852-16E4D06D8CC0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29EE5D4-BD8F-4421-9A35-29D224567F86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8B7BBBD-4D98-4B32-9705-73E5D3E5F10E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C60FBC5-B85C-46EF-87D6-E267490AFD41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F6D3FC4-F24B-4733-9EC5-1F87A4DB94D4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C40947C-1A10-42D9-9764-F73AF5F8C9BF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9A228DB-107A-4688-9843-9260624899CE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DB151C6-EE5F-4214-B4A1-9EA18701F987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4C5B04D-2E7B-404F-B781-716190A21B37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40DD1CB-EEA1-4A22-8985-A3368FD8E65A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DB48874-7DAD-4FA2-BEFB-7BE2AB55E276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451F260-BB31-4823-9AF4-D758F6D74E4A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4267487-323C-4372-9504-976728514DFE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06B3004-DA46-4C36-B799-3A2D5A8E5B92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C4AE931-8E28-461E-A984-EF5497F13D96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CBC6D49-E626-4623-BA64-8845D182F2BA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751BCB4-0E1C-46C5-87E0-9BD3DBE96149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A38D082-1DEC-48F1-8D91-0A806EF10FDC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16747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6320" y="420120"/>
            <a:ext cx="16747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49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6320" y="42012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204920" y="42012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2600" y="23796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78880" y="23796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6320" y="42012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912600" y="42012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478880" y="42012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46320" y="-43560"/>
            <a:ext cx="1674720" cy="9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817200" cy="3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204920" y="237960"/>
            <a:ext cx="817200" cy="3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204920" y="237960"/>
            <a:ext cx="817200" cy="3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46320" y="42012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6320" y="-43560"/>
            <a:ext cx="1674720" cy="9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817200" cy="3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049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04920" y="42012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049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6320" y="420120"/>
            <a:ext cx="16747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16747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6320" y="420120"/>
            <a:ext cx="16747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049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6320" y="42012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204920" y="42012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2600" y="23796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78880" y="23796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6320" y="42012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912600" y="42012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478880" y="420120"/>
            <a:ext cx="5389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817200" cy="3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204920" y="237960"/>
            <a:ext cx="817200" cy="3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204920" y="237960"/>
            <a:ext cx="817200" cy="3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6320" y="42012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817200" cy="3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2049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04920" y="42012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63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204920" y="237960"/>
            <a:ext cx="81720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6320" y="420120"/>
            <a:ext cx="1674720" cy="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6"/>
          <p:cNvSpPr/>
          <p:nvPr/>
        </p:nvSpPr>
        <p:spPr>
          <a:xfrm>
            <a:off x="0" y="231120"/>
            <a:ext cx="282960" cy="275400"/>
          </a:xfrm>
          <a:prstGeom prst="rect">
            <a:avLst/>
          </a:prstGeom>
          <a:solidFill>
            <a:srgbClr val="fde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1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输入标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矩形 3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../media/media6.mp4"/><Relationship Id="rId2" Type="http://schemas.microsoft.com/office/2007/relationships/media" Target="../media/media6.mp4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../media/media8.mp4"/><Relationship Id="rId2" Type="http://schemas.microsoft.com/office/2007/relationships/media" Target="../media/media8.mp4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../media/media10.mp4"/><Relationship Id="rId2" Type="http://schemas.microsoft.com/office/2007/relationships/media" Target="../media/media10.mp4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../media/media12.mp4"/><Relationship Id="rId2" Type="http://schemas.microsoft.com/office/2007/relationships/media" Target="../media/media12.mp4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../media/media14.mp4"/><Relationship Id="rId2" Type="http://schemas.microsoft.com/office/2007/relationships/media" Target="../media/media14.mp4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video" Target="../media/media16.mp4"/><Relationship Id="rId2" Type="http://schemas.microsoft.com/office/2007/relationships/media" Target="../media/media16.mp4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../media/media4.mp4"/><Relationship Id="rId2" Type="http://schemas.microsoft.com/office/2007/relationships/media" Target="../media/media4.mp4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39720"/>
          </a:xfrm>
          <a:prstGeom prst="rect">
            <a:avLst/>
          </a:prstGeom>
          <a:ln w="0">
            <a:noFill/>
          </a:ln>
        </p:spPr>
      </p:pic>
      <p:sp>
        <p:nvSpPr>
          <p:cNvPr id="85" name="矩形 2"/>
          <p:cNvSpPr/>
          <p:nvPr/>
        </p:nvSpPr>
        <p:spPr>
          <a:xfrm>
            <a:off x="0" y="0"/>
            <a:ext cx="9143640" cy="5139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bfcaf0">
                  <a:alpha val="0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86" name="文本框 3" hidden="1"/>
          <p:cNvSpPr/>
          <p:nvPr/>
        </p:nvSpPr>
        <p:spPr>
          <a:xfrm>
            <a:off x="0" y="112320"/>
            <a:ext cx="1571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Y YUS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25"/>
          <p:cNvGrpSpPr/>
          <p:nvPr/>
        </p:nvGrpSpPr>
        <p:grpSpPr>
          <a:xfrm>
            <a:off x="461520" y="1518480"/>
            <a:ext cx="4381560" cy="1468080"/>
            <a:chOff x="461520" y="1518480"/>
            <a:chExt cx="4381560" cy="1468080"/>
          </a:xfrm>
        </p:grpSpPr>
        <p:sp>
          <p:nvSpPr>
            <p:cNvPr id="88" name="矩形 27"/>
            <p:cNvSpPr/>
            <p:nvPr/>
          </p:nvSpPr>
          <p:spPr>
            <a:xfrm>
              <a:off x="1306440" y="1518480"/>
              <a:ext cx="2695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600" spc="-1" strike="noStrike">
                  <a:solidFill>
                    <a:srgbClr val="ffffff"/>
                  </a:solidFill>
                  <a:latin typeface="胡晓波男神体"/>
                  <a:ea typeface="胡晓波男神体"/>
                </a:rPr>
                <a:t>怎么都快乐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28"/>
            <p:cNvSpPr/>
            <p:nvPr/>
          </p:nvSpPr>
          <p:spPr>
            <a:xfrm>
              <a:off x="461520" y="2714400"/>
              <a:ext cx="4033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ffffff"/>
                  </a:solidFill>
                  <a:latin typeface="思源黑体 CN Bold"/>
                  <a:ea typeface="思源黑体 CN Bold"/>
                </a:rPr>
                <a:t>语文精品课件 一年级下册 </a:t>
              </a:r>
              <a:r>
                <a:rPr b="0" lang="en-US" sz="1200" spc="-1" strike="noStrike">
                  <a:solidFill>
                    <a:srgbClr val="ffffff"/>
                  </a:solidFill>
                  <a:latin typeface="思源黑体 CN Bold"/>
                  <a:ea typeface="思源黑体 CN Bold"/>
                </a:rPr>
                <a:t>3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直接连接符 29"/>
            <p:cNvCxnSpPr/>
            <p:nvPr/>
          </p:nvCxnSpPr>
          <p:spPr>
            <a:xfrm>
              <a:off x="532080" y="2579040"/>
              <a:ext cx="4311360" cy="360"/>
            </a:xfrm>
            <a:prstGeom prst="straightConnector1">
              <a:avLst/>
            </a:prstGeom>
            <a:ln w="6350">
              <a:solidFill>
                <a:srgbClr val="ffffff"/>
              </a:solidFill>
              <a:miter/>
            </a:ln>
          </p:spPr>
        </p:cxnSp>
      </p:grpSp>
      <p:sp>
        <p:nvSpPr>
          <p:cNvPr id="91" name="矩形 26"/>
          <p:cNvSpPr/>
          <p:nvPr/>
        </p:nvSpPr>
        <p:spPr>
          <a:xfrm>
            <a:off x="982800" y="1062360"/>
            <a:ext cx="1923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ZEN ME DOU KUAI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1275840" y="4484880"/>
            <a:ext cx="29732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" name="矩形: 圆角 8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78" name="文本框 9"/>
          <p:cNvSpPr/>
          <p:nvPr/>
        </p:nvSpPr>
        <p:spPr>
          <a:xfrm>
            <a:off x="7220520" y="1307880"/>
            <a:ext cx="754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hě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1"/>
          <p:cNvSpPr/>
          <p:nvPr/>
        </p:nvSpPr>
        <p:spPr>
          <a:xfrm>
            <a:off x="3862080" y="1940040"/>
            <a:ext cx="15955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2"/>
          <p:cNvSpPr/>
          <p:nvPr/>
        </p:nvSpPr>
        <p:spPr>
          <a:xfrm>
            <a:off x="4668840" y="1922760"/>
            <a:ext cx="443160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很好   很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阿姨对弟弟很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Group 47"/>
          <p:cNvGraphicFramePr/>
          <p:nvPr/>
        </p:nvGraphicFramePr>
        <p:xfrm>
          <a:off x="7174440" y="184032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82" name="矩形 15"/>
          <p:cNvSpPr/>
          <p:nvPr/>
        </p:nvSpPr>
        <p:spPr>
          <a:xfrm>
            <a:off x="7392600" y="184752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57320" y="1745640"/>
            <a:ext cx="2376720" cy="243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delay="0" evt="onClick">
                    <p:tgtEl>
                      <p:spTgt spid="183"/>
                    </p:tgtEl>
                  </p:cond>
                </p:stCondLst>
                <p:childTnLst>
                  <p:par>
                    <p:cTn id="372" fill="hold">
                      <p:stCondLst>
                        <p:cond delay="0"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5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83"/>
                </p:tgtEl>
              </p:cMediaNode>
            </p:vide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5" name="矩形: 圆角 8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86" name="文本框 11"/>
          <p:cNvSpPr/>
          <p:nvPr/>
        </p:nvSpPr>
        <p:spPr>
          <a:xfrm>
            <a:off x="7151040" y="1307880"/>
            <a:ext cx="928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dā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2"/>
          <p:cNvSpPr/>
          <p:nvPr/>
        </p:nvSpPr>
        <p:spPr>
          <a:xfrm>
            <a:off x="3870720" y="1940040"/>
            <a:ext cx="15955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4"/>
          <p:cNvSpPr/>
          <p:nvPr/>
        </p:nvSpPr>
        <p:spPr>
          <a:xfrm>
            <a:off x="4643640" y="1940040"/>
            <a:ext cx="443160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上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当时   应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你应当把东西还给主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Group 47"/>
          <p:cNvGraphicFramePr/>
          <p:nvPr/>
        </p:nvGraphicFramePr>
        <p:xfrm>
          <a:off x="7183080" y="184032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90" name="矩形 16"/>
          <p:cNvSpPr/>
          <p:nvPr/>
        </p:nvSpPr>
        <p:spPr>
          <a:xfrm>
            <a:off x="7400880" y="184752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136160" y="1698480"/>
            <a:ext cx="229788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delay="0" evt="onClick">
                    <p:tgtEl>
                      <p:spTgt spid="191"/>
                    </p:tgtEl>
                  </p:cond>
                </p:stCondLst>
                <p:childTnLst>
                  <p:par>
                    <p:cTn id="406" fill="hold">
                      <p:stCondLst>
                        <p:cond delay="0"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9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91"/>
                </p:tgtEl>
              </p:cMediaNode>
            </p:vide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3" name="矩形: 圆角 8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94" name="文本框 11"/>
          <p:cNvSpPr/>
          <p:nvPr/>
        </p:nvSpPr>
        <p:spPr>
          <a:xfrm>
            <a:off x="7227000" y="1325160"/>
            <a:ext cx="983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ī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2"/>
          <p:cNvSpPr/>
          <p:nvPr/>
        </p:nvSpPr>
        <p:spPr>
          <a:xfrm>
            <a:off x="3876480" y="1940040"/>
            <a:ext cx="15955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4563360" y="1940040"/>
            <a:ext cx="443160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上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音乐  声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最喜欢上音乐课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Group 47"/>
          <p:cNvGraphicFramePr/>
          <p:nvPr/>
        </p:nvGraphicFramePr>
        <p:xfrm>
          <a:off x="7160400" y="1857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98" name="矩形 16"/>
          <p:cNvSpPr/>
          <p:nvPr/>
        </p:nvSpPr>
        <p:spPr>
          <a:xfrm>
            <a:off x="7378560" y="186444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63800" y="1640520"/>
            <a:ext cx="2305080" cy="232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delay="0" evt="onClick">
                    <p:tgtEl>
                      <p:spTgt spid="199"/>
                    </p:tgtEl>
                  </p:cond>
                </p:stCondLst>
                <p:childTnLst>
                  <p:par>
                    <p:cTn id="440" fill="hold">
                      <p:stCondLst>
                        <p:cond delay="0"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3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99"/>
                </p:tgtEl>
              </p:cMediaNode>
            </p:vide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矩形: 圆角 8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202" name="文本框 11"/>
          <p:cNvSpPr/>
          <p:nvPr/>
        </p:nvSpPr>
        <p:spPr>
          <a:xfrm>
            <a:off x="7040160" y="1308240"/>
            <a:ext cx="960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jiǎn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2"/>
          <p:cNvSpPr/>
          <p:nvPr/>
        </p:nvSpPr>
        <p:spPr>
          <a:xfrm>
            <a:off x="3873600" y="1940040"/>
            <a:ext cx="15955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4"/>
          <p:cNvSpPr/>
          <p:nvPr/>
        </p:nvSpPr>
        <p:spPr>
          <a:xfrm>
            <a:off x="4646520" y="1922760"/>
            <a:ext cx="443160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讲话    演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报名参加了本次的演讲比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Group 47"/>
          <p:cNvGraphicFramePr/>
          <p:nvPr/>
        </p:nvGraphicFramePr>
        <p:xfrm>
          <a:off x="7185960" y="184032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06" name="矩形 16"/>
          <p:cNvSpPr/>
          <p:nvPr/>
        </p:nvSpPr>
        <p:spPr>
          <a:xfrm>
            <a:off x="7404120" y="184752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152000" y="1674360"/>
            <a:ext cx="2326680" cy="232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delay="0" evt="onClick">
                    <p:tgtEl>
                      <p:spTgt spid="207"/>
                    </p:tgtEl>
                  </p:cond>
                </p:stCondLst>
                <p:childTnLst>
                  <p:par>
                    <p:cTn id="474" fill="hold">
                      <p:stCondLst>
                        <p:cond delay="0"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7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207"/>
                </p:tgtEl>
              </p:cMediaNode>
            </p:vide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矩形: 圆角 8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7021440" y="1308600"/>
            <a:ext cx="968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xí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3858480" y="1940400"/>
            <a:ext cx="15955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4"/>
          <p:cNvSpPr/>
          <p:nvPr/>
        </p:nvSpPr>
        <p:spPr>
          <a:xfrm>
            <a:off x="4661640" y="1940400"/>
            <a:ext cx="443160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行驶   行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今晚按计划采取行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Group 47"/>
          <p:cNvGraphicFramePr/>
          <p:nvPr/>
        </p:nvGraphicFramePr>
        <p:xfrm>
          <a:off x="7170840" y="184068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14" name="矩形 16"/>
          <p:cNvSpPr/>
          <p:nvPr/>
        </p:nvSpPr>
        <p:spPr>
          <a:xfrm>
            <a:off x="7389000" y="184788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53720" y="1585080"/>
            <a:ext cx="2472840" cy="242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delay="0" evt="onClick">
                    <p:tgtEl>
                      <p:spTgt spid="215"/>
                    </p:tgtEl>
                  </p:cond>
                </p:stCondLst>
                <p:childTnLst>
                  <p:par>
                    <p:cTn id="508" fill="hold">
                      <p:stCondLst>
                        <p:cond delay="0"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1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215"/>
                </p:tgtEl>
              </p:cMediaNode>
            </p:vide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矩形: 圆角 8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218" name="文本框 11"/>
          <p:cNvSpPr/>
          <p:nvPr/>
        </p:nvSpPr>
        <p:spPr>
          <a:xfrm>
            <a:off x="7208640" y="1316160"/>
            <a:ext cx="754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x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2"/>
          <p:cNvSpPr/>
          <p:nvPr/>
        </p:nvSpPr>
        <p:spPr>
          <a:xfrm>
            <a:off x="3850200" y="1947960"/>
            <a:ext cx="15955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4"/>
          <p:cNvSpPr/>
          <p:nvPr/>
        </p:nvSpPr>
        <p:spPr>
          <a:xfrm>
            <a:off x="4653000" y="1947960"/>
            <a:ext cx="443160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许多   也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周末妈妈买来许多好吃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Group 47"/>
          <p:cNvGraphicFramePr/>
          <p:nvPr/>
        </p:nvGraphicFramePr>
        <p:xfrm>
          <a:off x="7162560" y="184824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22" name="矩形 16"/>
          <p:cNvSpPr/>
          <p:nvPr/>
        </p:nvSpPr>
        <p:spPr>
          <a:xfrm>
            <a:off x="7380720" y="185544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191600" y="1703160"/>
            <a:ext cx="2326680" cy="220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delay="0" evt="onClick">
                    <p:tgtEl>
                      <p:spTgt spid="223"/>
                    </p:tgtEl>
                  </p:cond>
                </p:stCondLst>
                <p:childTnLst>
                  <p:par>
                    <p:cTn id="542" fill="hold">
                      <p:stCondLst>
                        <p:cond delay="0"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5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223"/>
                </p:tgtEl>
              </p:cMediaNode>
            </p:vide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6"/>
          <p:cNvSpPr/>
          <p:nvPr/>
        </p:nvSpPr>
        <p:spPr>
          <a:xfrm>
            <a:off x="1817640" y="1240920"/>
            <a:ext cx="5508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数一数，课文一共有几个小节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合插图看一看，四幅图中分别是几个人在玩呢？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5410800" y="1301760"/>
            <a:ext cx="208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17"/>
          <p:cNvGrpSpPr/>
          <p:nvPr/>
        </p:nvGrpSpPr>
        <p:grpSpPr>
          <a:xfrm>
            <a:off x="746640" y="2451960"/>
            <a:ext cx="1875600" cy="1792440"/>
            <a:chOff x="746640" y="2451960"/>
            <a:chExt cx="1875600" cy="1792440"/>
          </a:xfrm>
        </p:grpSpPr>
        <p:pic>
          <p:nvPicPr>
            <p:cNvPr id="227" name="Picture 2" descr=""/>
            <p:cNvPicPr/>
            <p:nvPr/>
          </p:nvPicPr>
          <p:blipFill>
            <a:blip r:embed="rId1"/>
            <a:stretch/>
          </p:blipFill>
          <p:spPr>
            <a:xfrm>
              <a:off x="746640" y="2995920"/>
              <a:ext cx="1875600" cy="1248480"/>
            </a:xfrm>
            <a:prstGeom prst="rect">
              <a:avLst/>
            </a:prstGeom>
            <a:ln w="0">
              <a:noFill/>
            </a:ln>
            <a:effectLst>
              <a:outerShdw algn="tl" blurRad="291960" dir="2700000" dist="139498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8" name="文本框 1"/>
            <p:cNvSpPr/>
            <p:nvPr/>
          </p:nvSpPr>
          <p:spPr>
            <a:xfrm>
              <a:off x="1543320" y="2451960"/>
              <a:ext cx="3290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一个人独自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8"/>
          <p:cNvGrpSpPr/>
          <p:nvPr/>
        </p:nvGrpSpPr>
        <p:grpSpPr>
          <a:xfrm>
            <a:off x="2671560" y="2451960"/>
            <a:ext cx="1875600" cy="1792440"/>
            <a:chOff x="2671560" y="2451960"/>
            <a:chExt cx="1875600" cy="1792440"/>
          </a:xfrm>
        </p:grpSpPr>
        <p:pic>
          <p:nvPicPr>
            <p:cNvPr id="230" name="Picture 3" descr=""/>
            <p:cNvPicPr/>
            <p:nvPr/>
          </p:nvPicPr>
          <p:blipFill>
            <a:blip r:embed="rId2"/>
            <a:stretch/>
          </p:blipFill>
          <p:spPr>
            <a:xfrm>
              <a:off x="2671560" y="2995920"/>
              <a:ext cx="1875600" cy="1248480"/>
            </a:xfrm>
            <a:prstGeom prst="rect">
              <a:avLst/>
            </a:prstGeom>
            <a:ln w="0">
              <a:noFill/>
            </a:ln>
            <a:effectLst>
              <a:outerShdw algn="tl" blurRad="291960" dir="2700000" dist="139498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31" name="文本框 2"/>
            <p:cNvSpPr/>
            <p:nvPr/>
          </p:nvSpPr>
          <p:spPr>
            <a:xfrm>
              <a:off x="3468240" y="2451960"/>
              <a:ext cx="3290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两个人一起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9"/>
          <p:cNvGrpSpPr/>
          <p:nvPr/>
        </p:nvGrpSpPr>
        <p:grpSpPr>
          <a:xfrm>
            <a:off x="4596480" y="2451960"/>
            <a:ext cx="1875600" cy="1792440"/>
            <a:chOff x="4596480" y="2451960"/>
            <a:chExt cx="1875600" cy="1792440"/>
          </a:xfrm>
        </p:grpSpPr>
        <p:pic>
          <p:nvPicPr>
            <p:cNvPr id="233" name="Picture 4" descr=""/>
            <p:cNvPicPr/>
            <p:nvPr/>
          </p:nvPicPr>
          <p:blipFill>
            <a:blip r:embed="rId3"/>
            <a:stretch/>
          </p:blipFill>
          <p:spPr>
            <a:xfrm>
              <a:off x="4596480" y="2995920"/>
              <a:ext cx="1875600" cy="1248480"/>
            </a:xfrm>
            <a:prstGeom prst="rect">
              <a:avLst/>
            </a:prstGeom>
            <a:ln w="0">
              <a:noFill/>
            </a:ln>
            <a:effectLst>
              <a:outerShdw algn="tl" blurRad="291960" dir="2700000" dist="139498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34" name="文本框 3"/>
            <p:cNvSpPr/>
            <p:nvPr/>
          </p:nvSpPr>
          <p:spPr>
            <a:xfrm>
              <a:off x="5393160" y="2451960"/>
              <a:ext cx="3290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5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三个人一起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20"/>
          <p:cNvGrpSpPr/>
          <p:nvPr/>
        </p:nvGrpSpPr>
        <p:grpSpPr>
          <a:xfrm>
            <a:off x="6521400" y="2437920"/>
            <a:ext cx="1875600" cy="1806480"/>
            <a:chOff x="6521400" y="2437920"/>
            <a:chExt cx="1875600" cy="1806480"/>
          </a:xfrm>
        </p:grpSpPr>
        <p:pic>
          <p:nvPicPr>
            <p:cNvPr id="236" name="Picture 5" descr=""/>
            <p:cNvPicPr/>
            <p:nvPr/>
          </p:nvPicPr>
          <p:blipFill>
            <a:blip r:embed="rId4"/>
            <a:stretch/>
          </p:blipFill>
          <p:spPr>
            <a:xfrm>
              <a:off x="6521400" y="2995920"/>
              <a:ext cx="1875600" cy="1248480"/>
            </a:xfrm>
            <a:prstGeom prst="rect">
              <a:avLst/>
            </a:prstGeom>
            <a:ln w="0">
              <a:noFill/>
            </a:ln>
            <a:effectLst>
              <a:outerShdw algn="tl" blurRad="291960" dir="2700000" dist="139498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37" name="文本框 4"/>
            <p:cNvSpPr/>
            <p:nvPr/>
          </p:nvSpPr>
          <p:spPr>
            <a:xfrm>
              <a:off x="7311960" y="2437920"/>
              <a:ext cx="3290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15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许多人一起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9" name="矩形: 圆角 12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双波形 2"/>
          <p:cNvSpPr/>
          <p:nvPr/>
        </p:nvSpPr>
        <p:spPr>
          <a:xfrm>
            <a:off x="699480" y="1356480"/>
            <a:ext cx="2374560" cy="408960"/>
          </a:xfrm>
          <a:prstGeom prst="doubleWave">
            <a:avLst>
              <a:gd name="adj1" fmla="val 6250"/>
              <a:gd name="adj2" fmla="val 0"/>
            </a:avLst>
          </a:prstGeom>
          <a:solidFill>
            <a:schemeClr val="bg1"/>
          </a:solidFill>
          <a:ln w="9525">
            <a:solidFill>
              <a:srgbClr val="9d9d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想一想，填一填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485640" y="2251440"/>
            <a:ext cx="807552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      ）个人玩可以踢毽子，折纸船，（     ）个人玩可以打羽毛球，（      ）个人玩可以跳大绳，（       ）人一起玩更好，什么游戏都能玩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9"/>
          <p:cNvSpPr/>
          <p:nvPr/>
        </p:nvSpPr>
        <p:spPr>
          <a:xfrm>
            <a:off x="834480" y="2341440"/>
            <a:ext cx="2822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2"/>
          <p:cNvSpPr/>
          <p:nvPr/>
        </p:nvSpPr>
        <p:spPr>
          <a:xfrm>
            <a:off x="5065560" y="2341440"/>
            <a:ext cx="2106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3"/>
          <p:cNvSpPr/>
          <p:nvPr/>
        </p:nvSpPr>
        <p:spPr>
          <a:xfrm>
            <a:off x="870120" y="2817000"/>
            <a:ext cx="2106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4"/>
          <p:cNvSpPr/>
          <p:nvPr/>
        </p:nvSpPr>
        <p:spPr>
          <a:xfrm>
            <a:off x="5198760" y="2824560"/>
            <a:ext cx="31752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许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9"/>
          <p:cNvSpPr/>
          <p:nvPr/>
        </p:nvSpPr>
        <p:spPr>
          <a:xfrm>
            <a:off x="653760" y="3591360"/>
            <a:ext cx="7739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课文的小主人公是玩什么让自己快乐起来的呢？下节课我们一起去看一看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8" name="矩形: 圆角 11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2"/>
          <p:cNvSpPr/>
          <p:nvPr/>
        </p:nvSpPr>
        <p:spPr>
          <a:xfrm>
            <a:off x="797400" y="2014560"/>
            <a:ext cx="1438920" cy="312120"/>
          </a:xfrm>
          <a:prstGeom prst="wedgeRoundRectCallout">
            <a:avLst>
              <a:gd name="adj1" fmla="val 73858"/>
              <a:gd name="adj2" fmla="val 7089"/>
              <a:gd name="adj3" fmla="val 16667"/>
            </a:avLst>
          </a:prstGeom>
          <a:solidFill>
            <a:schemeClr val="bg1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个人，没有其他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5182560" y="1784880"/>
            <a:ext cx="3132360" cy="398520"/>
          </a:xfrm>
          <a:prstGeom prst="wedgeEllipseCallout">
            <a:avLst>
              <a:gd name="adj1" fmla="val -31408"/>
              <a:gd name="adj2" fmla="val 77380"/>
            </a:avLst>
          </a:prstGeom>
          <a:solidFill>
            <a:schemeClr val="bg1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非常安静，没有声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5"/>
          <p:cNvSpPr/>
          <p:nvPr/>
        </p:nvSpPr>
        <p:spPr>
          <a:xfrm>
            <a:off x="3828600" y="2130120"/>
            <a:ext cx="1002960" cy="520200"/>
          </a:xfrm>
          <a:prstGeom prst="ellipse">
            <a:avLst/>
          </a:prstGeom>
          <a:solidFill>
            <a:schemeClr val="bg1"/>
          </a:solidFill>
          <a:ln w="38100">
            <a:solidFill>
              <a:srgbClr val="9d9d9d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52" name="缺角矩形 7"/>
          <p:cNvSpPr/>
          <p:nvPr/>
        </p:nvSpPr>
        <p:spPr>
          <a:xfrm>
            <a:off x="2475000" y="1562400"/>
            <a:ext cx="2110680" cy="482040"/>
          </a:xfrm>
          <a:prstGeom prst="plaque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9d9d9d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53" name="文本框 8"/>
          <p:cNvSpPr/>
          <p:nvPr/>
        </p:nvSpPr>
        <p:spPr>
          <a:xfrm>
            <a:off x="4834440" y="1203120"/>
            <a:ext cx="565200" cy="281160"/>
          </a:xfrm>
          <a:prstGeom prst="borderCallout1">
            <a:avLst>
              <a:gd name="adj1" fmla="val 18750"/>
              <a:gd name="adj2" fmla="val -8333"/>
              <a:gd name="adj3" fmla="val 112500"/>
              <a:gd name="adj4" fmla="val -38333"/>
            </a:avLst>
          </a:prstGeom>
          <a:solidFill>
            <a:schemeClr val="bg1"/>
          </a:solidFill>
          <a:ln w="38100">
            <a:solidFill>
              <a:srgbClr val="9d9d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重点语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99"/>
          <p:cNvSpPr/>
          <p:nvPr/>
        </p:nvSpPr>
        <p:spPr>
          <a:xfrm>
            <a:off x="5993640" y="3165120"/>
            <a:ext cx="2287080" cy="432360"/>
          </a:xfrm>
          <a:prstGeom prst="cloudCallout">
            <a:avLst>
              <a:gd name="adj1" fmla="val -40223"/>
              <a:gd name="adj2" fmla="val -57443"/>
            </a:avLst>
          </a:prstGeom>
          <a:solidFill>
            <a:schemeClr val="bg1"/>
          </a:solidFill>
          <a:ln w="9525">
            <a:solidFill>
              <a:srgbClr val="9d9d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个人玩：安静、自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0"/>
          <p:cNvSpPr/>
          <p:nvPr/>
        </p:nvSpPr>
        <p:spPr>
          <a:xfrm>
            <a:off x="2536920" y="1432080"/>
            <a:ext cx="451512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7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个人玩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很好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独自一个，静悄悄的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正好用纸折船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,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折马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踢毽子，跳绳，搭积木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当然还有看书，画画，听音乐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矩形: 圆角 11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7"/>
          <p:cNvSpPr/>
          <p:nvPr/>
        </p:nvSpPr>
        <p:spPr>
          <a:xfrm>
            <a:off x="1078560" y="1804320"/>
            <a:ext cx="14184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说一说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7"/>
          <p:cNvSpPr/>
          <p:nvPr/>
        </p:nvSpPr>
        <p:spPr>
          <a:xfrm>
            <a:off x="497880" y="2136240"/>
            <a:ext cx="79200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个人可以（      ），也可以（      ）……这样玩，很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75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个人可以（      ），也可以（      ）……这样玩，很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2249640" y="2360880"/>
            <a:ext cx="1687320" cy="2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跑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"/>
          <p:cNvSpPr/>
          <p:nvPr/>
        </p:nvSpPr>
        <p:spPr>
          <a:xfrm>
            <a:off x="4481640" y="2360880"/>
            <a:ext cx="1687320" cy="2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唱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"/>
          <p:cNvSpPr/>
          <p:nvPr/>
        </p:nvSpPr>
        <p:spPr>
          <a:xfrm>
            <a:off x="2249640" y="3072960"/>
            <a:ext cx="1687320" cy="2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跳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"/>
          <p:cNvSpPr/>
          <p:nvPr/>
        </p:nvSpPr>
        <p:spPr>
          <a:xfrm>
            <a:off x="4481640" y="3101400"/>
            <a:ext cx="1687320" cy="2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做手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5" name="矩形: 圆角 12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3"/>
          <p:cNvSpPr/>
          <p:nvPr/>
        </p:nvSpPr>
        <p:spPr>
          <a:xfrm>
            <a:off x="4103280" y="2094840"/>
            <a:ext cx="409140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任溶溶  中国儿童文学翻译家，作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主要作品：童话集《“没头脑”和“不高兴”》，儿童诗集《小孩子懂大事情》等。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icture 2"/>
          <p:cNvSpPr/>
          <p:nvPr/>
        </p:nvSpPr>
        <p:spPr>
          <a:xfrm>
            <a:off x="984600" y="1353960"/>
            <a:ext cx="2619360" cy="3025800"/>
          </a:xfrm>
          <a:prstGeom prst="roundRect">
            <a:avLst>
              <a:gd name="adj" fmla="val 16667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colorTemperature colorTemp="112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1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前导读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" name="矩形: 圆角 4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文本框 2"/>
          <p:cNvSpPr/>
          <p:nvPr/>
        </p:nvSpPr>
        <p:spPr>
          <a:xfrm>
            <a:off x="1474560" y="1465920"/>
            <a:ext cx="451512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7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个人玩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很好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独自一个，静悄悄的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正好用纸折船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,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折马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踢毽子，跳绳，搭积木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当然还有看书，画画，听音乐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"/>
          <p:cNvSpPr/>
          <p:nvPr/>
        </p:nvSpPr>
        <p:spPr>
          <a:xfrm>
            <a:off x="4404240" y="1185480"/>
            <a:ext cx="3875040" cy="660600"/>
          </a:xfrm>
          <a:prstGeom prst="cloudCallout">
            <a:avLst>
              <a:gd name="adj1" fmla="val -38824"/>
              <a:gd name="adj2" fmla="val 60205"/>
            </a:avLst>
          </a:prstGeom>
          <a:solidFill>
            <a:schemeClr val="bg1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7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朗读指导：读出一个人玩耍时的安静和自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9" name="矩形: 圆角 4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双波形 7"/>
          <p:cNvSpPr/>
          <p:nvPr/>
        </p:nvSpPr>
        <p:spPr>
          <a:xfrm>
            <a:off x="3986640" y="3583440"/>
            <a:ext cx="1261080" cy="409680"/>
          </a:xfrm>
          <a:prstGeom prst="doubleWave">
            <a:avLst>
              <a:gd name="adj1" fmla="val 6250"/>
              <a:gd name="adj2" fmla="val 0"/>
            </a:avLst>
          </a:prstGeom>
          <a:solidFill>
            <a:schemeClr val="bg1"/>
          </a:solidFill>
          <a:ln>
            <a:solidFill>
              <a:srgbClr val="9d9d9d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71" name="圆角矩形 3"/>
          <p:cNvSpPr/>
          <p:nvPr/>
        </p:nvSpPr>
        <p:spPr>
          <a:xfrm>
            <a:off x="979200" y="2121120"/>
            <a:ext cx="2129400" cy="4730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d9d9d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72" name="文本框 8"/>
          <p:cNvSpPr/>
          <p:nvPr/>
        </p:nvSpPr>
        <p:spPr>
          <a:xfrm>
            <a:off x="1091880" y="2052720"/>
            <a:ext cx="5216400" cy="134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两个人玩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很好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讲故事得有人 听才行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你讲我听，我讲你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还有下象棋，打羽毛球，坐跷跷板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"/>
          <p:cNvSpPr/>
          <p:nvPr/>
        </p:nvSpPr>
        <p:spPr>
          <a:xfrm>
            <a:off x="5034600" y="2833200"/>
            <a:ext cx="3155760" cy="430200"/>
          </a:xfrm>
          <a:prstGeom prst="wedgeRoundRectCallout">
            <a:avLst>
              <a:gd name="adj1" fmla="val -32511"/>
              <a:gd name="adj2" fmla="val 79348"/>
              <a:gd name="adj3" fmla="val 16667"/>
            </a:avLst>
          </a:prstGeom>
          <a:solidFill>
            <a:schemeClr val="bg1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两个人可以干的事还有很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5"/>
          <p:cNvSpPr/>
          <p:nvPr/>
        </p:nvSpPr>
        <p:spPr>
          <a:xfrm>
            <a:off x="3020400" y="1454040"/>
            <a:ext cx="1571760" cy="398520"/>
          </a:xfrm>
          <a:prstGeom prst="wedgeEllipseCallout">
            <a:avLst>
              <a:gd name="adj1" fmla="val -32625"/>
              <a:gd name="adj2" fmla="val 75247"/>
            </a:avLst>
          </a:prstGeom>
          <a:solidFill>
            <a:schemeClr val="bg1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重点语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矩形: 圆角 10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7"/>
          <p:cNvSpPr/>
          <p:nvPr/>
        </p:nvSpPr>
        <p:spPr>
          <a:xfrm>
            <a:off x="911520" y="1516320"/>
            <a:ext cx="606996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说一说：两个人还可以玩什么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586800" y="1889640"/>
            <a:ext cx="8071200" cy="764640"/>
          </a:xfrm>
          <a:prstGeom prst="roundRect">
            <a:avLst>
              <a:gd name="adj" fmla="val 16667"/>
            </a:avLst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两个人可以（            ），也可以（        ）……这样玩，很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75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两个人可以（            ），也可以（            ）……这样玩，很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2629800" y="2059920"/>
            <a:ext cx="671040" cy="2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跳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"/>
          <p:cNvSpPr/>
          <p:nvPr/>
        </p:nvSpPr>
        <p:spPr>
          <a:xfrm>
            <a:off x="5613480" y="2059920"/>
            <a:ext cx="793440" cy="2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唱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"/>
          <p:cNvSpPr/>
          <p:nvPr/>
        </p:nvSpPr>
        <p:spPr>
          <a:xfrm>
            <a:off x="2466360" y="2971440"/>
            <a:ext cx="1133640" cy="2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跳方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"/>
          <p:cNvSpPr/>
          <p:nvPr/>
        </p:nvSpPr>
        <p:spPr>
          <a:xfrm>
            <a:off x="5510160" y="2951280"/>
            <a:ext cx="1654920" cy="2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沙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4" name="矩形: 圆角 8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文本框 2"/>
          <p:cNvSpPr/>
          <p:nvPr/>
        </p:nvSpPr>
        <p:spPr>
          <a:xfrm>
            <a:off x="1078560" y="3487680"/>
            <a:ext cx="4062960" cy="468720"/>
          </a:xfrm>
          <a:prstGeom prst="bevel">
            <a:avLst>
              <a:gd name="adj" fmla="val 8645"/>
            </a:avLst>
          </a:prstGeom>
          <a:solidFill>
            <a:schemeClr val="bg1"/>
          </a:solidFill>
          <a:ln w="9525">
            <a:solidFill>
              <a:srgbClr val="9d9d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读出两个人玩耍时的快乐、有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8"/>
          <p:cNvSpPr/>
          <p:nvPr/>
        </p:nvSpPr>
        <p:spPr>
          <a:xfrm>
            <a:off x="986760" y="1401120"/>
            <a:ext cx="5216400" cy="134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两个人玩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很好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讲故事得有人 听才行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你讲我听，我讲你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还有下象棋，打羽毛球，坐跷跷板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8" name="矩形: 圆角 4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文本框 1"/>
          <p:cNvSpPr/>
          <p:nvPr/>
        </p:nvSpPr>
        <p:spPr>
          <a:xfrm>
            <a:off x="2178000" y="1586520"/>
            <a:ext cx="1571760" cy="18234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9d9d9d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三个人玩，很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讲故事多个人听更有劲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你讲我们听，我讲你们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两个人甩绳子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你跳，我跳，轮流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"/>
          <p:cNvSpPr/>
          <p:nvPr/>
        </p:nvSpPr>
        <p:spPr>
          <a:xfrm>
            <a:off x="5029560" y="1082520"/>
            <a:ext cx="2049840" cy="799200"/>
          </a:xfrm>
          <a:prstGeom prst="irregularSeal1">
            <a:avLst/>
          </a:prstGeom>
          <a:solidFill>
            <a:schemeClr val="bg1"/>
          </a:solidFill>
          <a:ln w="9525">
            <a:solidFill>
              <a:srgbClr val="9d9d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重点语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直接连接符 5"/>
          <p:cNvCxnSpPr/>
          <p:nvPr/>
        </p:nvCxnSpPr>
        <p:spPr>
          <a:xfrm flipV="1">
            <a:off x="1343160" y="2219760"/>
            <a:ext cx="2092680" cy="972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sp>
        <p:nvSpPr>
          <p:cNvPr id="292" name="文本框 10"/>
          <p:cNvSpPr/>
          <p:nvPr/>
        </p:nvSpPr>
        <p:spPr>
          <a:xfrm>
            <a:off x="5283360" y="2315880"/>
            <a:ext cx="2617560" cy="507240"/>
          </a:xfrm>
          <a:prstGeom prst="plaque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9d9d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朗读指导：读出三个人玩耍的热闹，有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直接连接符 12"/>
          <p:cNvCxnSpPr/>
          <p:nvPr/>
        </p:nvCxnSpPr>
        <p:spPr>
          <a:xfrm>
            <a:off x="1391040" y="2792880"/>
            <a:ext cx="76644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294" name="直接连接符 13"/>
          <p:cNvCxnSpPr/>
          <p:nvPr/>
        </p:nvCxnSpPr>
        <p:spPr>
          <a:xfrm flipV="1">
            <a:off x="1387080" y="3696120"/>
            <a:ext cx="1535760" cy="2484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6" name="矩形: 圆角 9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圆角矩形 27"/>
          <p:cNvSpPr/>
          <p:nvPr/>
        </p:nvSpPr>
        <p:spPr>
          <a:xfrm>
            <a:off x="4377600" y="1893600"/>
            <a:ext cx="1553040" cy="2826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d9d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8" name="圆角矩形 28"/>
          <p:cNvSpPr/>
          <p:nvPr/>
        </p:nvSpPr>
        <p:spPr>
          <a:xfrm>
            <a:off x="1634760" y="1888200"/>
            <a:ext cx="1351080" cy="2826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d9d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954000" y="1076040"/>
            <a:ext cx="17820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的发现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直接连接符 2"/>
          <p:cNvCxnSpPr/>
          <p:nvPr/>
        </p:nvCxnSpPr>
        <p:spPr>
          <a:xfrm flipV="1">
            <a:off x="1561320" y="2514600"/>
            <a:ext cx="284040" cy="612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cxnSp>
        <p:nvCxnSpPr>
          <p:cNvPr id="301" name="直接连接符 5"/>
          <p:cNvCxnSpPr/>
          <p:nvPr/>
        </p:nvCxnSpPr>
        <p:spPr>
          <a:xfrm flipV="1">
            <a:off x="2647080" y="2508840"/>
            <a:ext cx="243360" cy="612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sp>
        <p:nvSpPr>
          <p:cNvPr id="302" name="文本框 7"/>
          <p:cNvSpPr/>
          <p:nvPr/>
        </p:nvSpPr>
        <p:spPr>
          <a:xfrm>
            <a:off x="963360" y="1486800"/>
            <a:ext cx="27133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两个人玩，很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讲故事得有人听才行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你讲我听，我讲你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15"/>
          <p:cNvSpPr/>
          <p:nvPr/>
        </p:nvSpPr>
        <p:spPr>
          <a:xfrm>
            <a:off x="3657960" y="1486800"/>
            <a:ext cx="27133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三个人玩，很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讲故事多个人听更有劲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你讲我们听，我讲你们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5" name="矩形: 圆角 13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753840" y="2955960"/>
            <a:ext cx="6748560" cy="30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说一说：哪些游戏两个人可以玩，三个人也可以玩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5"/>
          <p:cNvSpPr/>
          <p:nvPr/>
        </p:nvSpPr>
        <p:spPr>
          <a:xfrm>
            <a:off x="619920" y="3425400"/>
            <a:ext cx="80380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       ）两个人可以玩，三个人也可以玩。这样玩，更有劲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       ）两个人可以玩，三个人也可以玩。这样玩，更有劲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"/>
          <p:cNvSpPr/>
          <p:nvPr/>
        </p:nvSpPr>
        <p:spPr>
          <a:xfrm>
            <a:off x="817920" y="3454560"/>
            <a:ext cx="1346400" cy="2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跳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"/>
          <p:cNvSpPr/>
          <p:nvPr/>
        </p:nvSpPr>
        <p:spPr>
          <a:xfrm>
            <a:off x="817920" y="3917880"/>
            <a:ext cx="1346400" cy="26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唱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圆角矩形 5"/>
          <p:cNvSpPr/>
          <p:nvPr/>
        </p:nvSpPr>
        <p:spPr>
          <a:xfrm>
            <a:off x="3895560" y="2338560"/>
            <a:ext cx="302400" cy="3405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d9d9d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11" name="圆角矩形 2"/>
          <p:cNvSpPr/>
          <p:nvPr/>
        </p:nvSpPr>
        <p:spPr>
          <a:xfrm>
            <a:off x="2334240" y="1325880"/>
            <a:ext cx="2479320" cy="3974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d9d9d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12" name="文本框 1"/>
          <p:cNvSpPr/>
          <p:nvPr/>
        </p:nvSpPr>
        <p:spPr>
          <a:xfrm>
            <a:off x="2442600" y="1212480"/>
            <a:ext cx="390024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四个人玩，很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五个人玩儿，很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许多人玩， 更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人多，什么游戏都能玩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拔河、老鹰捉小鸡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排球，打篮球，踢足球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连开运动会也可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3"/>
          <p:cNvSpPr/>
          <p:nvPr/>
        </p:nvSpPr>
        <p:spPr>
          <a:xfrm>
            <a:off x="5240160" y="1015920"/>
            <a:ext cx="1573200" cy="432360"/>
          </a:xfrm>
          <a:prstGeom prst="cloudCallout">
            <a:avLst>
              <a:gd name="adj1" fmla="val -64337"/>
              <a:gd name="adj2" fmla="val 30298"/>
            </a:avLst>
          </a:prstGeom>
          <a:solidFill>
            <a:schemeClr val="bg1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重点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99"/>
          <p:cNvSpPr/>
          <p:nvPr/>
        </p:nvSpPr>
        <p:spPr>
          <a:xfrm>
            <a:off x="559080" y="1723680"/>
            <a:ext cx="1814760" cy="398520"/>
          </a:xfrm>
          <a:prstGeom prst="wedgeEllipseCallout">
            <a:avLst>
              <a:gd name="adj1" fmla="val 40711"/>
              <a:gd name="adj2" fmla="val 64717"/>
            </a:avLst>
          </a:prstGeom>
          <a:solidFill>
            <a:schemeClr val="bg1"/>
          </a:solidFill>
          <a:ln w="9525">
            <a:solidFill>
              <a:srgbClr val="9d9d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更”是什么意思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7"/>
          <p:cNvSpPr/>
          <p:nvPr/>
        </p:nvSpPr>
        <p:spPr>
          <a:xfrm>
            <a:off x="5888880" y="1985400"/>
            <a:ext cx="2410920" cy="784440"/>
          </a:xfrm>
          <a:prstGeom prst="wedgeRoundRectCallout">
            <a:avLst>
              <a:gd name="adj1" fmla="val -64398"/>
              <a:gd name="adj2" fmla="val -28207"/>
              <a:gd name="adj3" fmla="val 16667"/>
            </a:avLst>
          </a:prstGeom>
          <a:solidFill>
            <a:schemeClr val="bg1"/>
          </a:solidFill>
          <a:ln w="38100">
            <a:solidFill>
              <a:srgbClr val="9d9d9d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联系上文：“四个人玩”“五个人玩”可知，这句话是指比四五个人玩快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矩形: 圆角 8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99"/>
          <p:cNvSpPr/>
          <p:nvPr/>
        </p:nvSpPr>
        <p:spPr>
          <a:xfrm>
            <a:off x="964080" y="3225600"/>
            <a:ext cx="7215840" cy="507240"/>
          </a:xfrm>
          <a:prstGeom prst="plaque">
            <a:avLst>
              <a:gd name="adj" fmla="val 16667"/>
            </a:avLst>
          </a:prstGeom>
          <a:solidFill>
            <a:schemeClr val="bg1"/>
          </a:solidFill>
          <a:ln w="9525">
            <a:solidFill>
              <a:srgbClr val="9d9d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会和他一起玩儿，三个人可以玩猜谜，成语接龙等游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994320" y="1614960"/>
            <a:ext cx="71852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下课啦，你和同桌正玩得开心，有另一个同学想和你们一起玩，你会怎么做？你们可以玩哪些游戏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1" name="矩形: 圆角 4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25"/>
          <p:cNvSpPr/>
          <p:nvPr/>
        </p:nvSpPr>
        <p:spPr>
          <a:xfrm>
            <a:off x="1287360" y="2127960"/>
            <a:ext cx="6894360" cy="70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这首小诗分别讲了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个人玩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) (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两个人玩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)(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三个人玩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四个人玩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) (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五个人玩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以及“许多人玩”的快乐，强调了（集体）快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"/>
          <p:cNvSpPr/>
          <p:nvPr/>
        </p:nvSpPr>
        <p:spPr>
          <a:xfrm>
            <a:off x="1542960" y="1736280"/>
            <a:ext cx="653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课文主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3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矩形: 圆角 6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5"/>
          <p:cNvSpPr/>
          <p:nvPr/>
        </p:nvSpPr>
        <p:spPr>
          <a:xfrm>
            <a:off x="3739320" y="1819800"/>
            <a:ext cx="13626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一个人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3746160" y="2173320"/>
            <a:ext cx="18464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两个人一起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746160" y="2602440"/>
            <a:ext cx="18464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三个人一起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3739320" y="3395160"/>
            <a:ext cx="192528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许多人一起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2"/>
          <p:cNvSpPr/>
          <p:nvPr/>
        </p:nvSpPr>
        <p:spPr>
          <a:xfrm>
            <a:off x="1865160" y="2531880"/>
            <a:ext cx="1472760" cy="30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怎么都快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左大括号 23"/>
          <p:cNvSpPr/>
          <p:nvPr/>
        </p:nvSpPr>
        <p:spPr>
          <a:xfrm>
            <a:off x="3380400" y="2204280"/>
            <a:ext cx="177840" cy="13928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ff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5754960" y="1819800"/>
            <a:ext cx="68112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很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5754960" y="2173320"/>
            <a:ext cx="827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很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5754960" y="2602440"/>
            <a:ext cx="71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很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5754960" y="3395160"/>
            <a:ext cx="827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更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3746160" y="3041280"/>
            <a:ext cx="32094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……           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4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堂小结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8" name="矩形: 圆角 13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3"/>
          <p:cNvSpPr/>
          <p:nvPr/>
        </p:nvSpPr>
        <p:spPr>
          <a:xfrm>
            <a:off x="930600" y="1759680"/>
            <a:ext cx="67320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不认识的字可以看拼音，或者请教老师和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读准每一个字的字音，圈出生字词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读通每个句子，读不通顺的多读几遍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给每个自然段写上序号。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1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前导读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矩形: 圆角 4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7"/>
          <p:cNvSpPr/>
          <p:nvPr/>
        </p:nvSpPr>
        <p:spPr>
          <a:xfrm>
            <a:off x="1544760" y="1244880"/>
            <a:ext cx="6968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、选择合适的字填空。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序号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①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跳　②听　③讲　④玩　⑤打　⑥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        )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绳　  　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       )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足球   　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       )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故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       )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音乐　  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       )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排球　  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       )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游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"/>
          <p:cNvSpPr/>
          <p:nvPr/>
        </p:nvSpPr>
        <p:spPr>
          <a:xfrm>
            <a:off x="2189160" y="2767320"/>
            <a:ext cx="403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5"/>
          <p:cNvSpPr/>
          <p:nvPr/>
        </p:nvSpPr>
        <p:spPr>
          <a:xfrm>
            <a:off x="4503600" y="2767320"/>
            <a:ext cx="298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8"/>
          <p:cNvSpPr/>
          <p:nvPr/>
        </p:nvSpPr>
        <p:spPr>
          <a:xfrm>
            <a:off x="6845760" y="2753280"/>
            <a:ext cx="298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9"/>
          <p:cNvSpPr/>
          <p:nvPr/>
        </p:nvSpPr>
        <p:spPr>
          <a:xfrm>
            <a:off x="2189160" y="3421080"/>
            <a:ext cx="403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0"/>
          <p:cNvSpPr/>
          <p:nvPr/>
        </p:nvSpPr>
        <p:spPr>
          <a:xfrm>
            <a:off x="4503600" y="3421080"/>
            <a:ext cx="298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1"/>
          <p:cNvSpPr/>
          <p:nvPr/>
        </p:nvSpPr>
        <p:spPr>
          <a:xfrm>
            <a:off x="6847920" y="3406680"/>
            <a:ext cx="298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5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堂练习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7" name="矩形: 圆角 12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17"/>
          <p:cNvSpPr/>
          <p:nvPr/>
        </p:nvSpPr>
        <p:spPr>
          <a:xfrm>
            <a:off x="1077120" y="1184400"/>
            <a:ext cx="7189920" cy="22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二、判断题：在正确的说法后面画√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个人玩很好，两个人玩也不错，但是人太多就一点儿也不好玩儿了。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多了一起玩儿会更快乐。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只有一个人玩的时候，才可以听音乐。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"/>
          <p:cNvSpPr/>
          <p:nvPr/>
        </p:nvSpPr>
        <p:spPr>
          <a:xfrm>
            <a:off x="4822560" y="3335040"/>
            <a:ext cx="3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5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课堂练习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1" name="矩形: 圆角 4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943560" y="1797840"/>
            <a:ext cx="764964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怎   独   跳    绳    讲    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羽   球   戏   排    篮    连   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1000440" y="1797840"/>
            <a:ext cx="432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zě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0"/>
          <p:cNvSpPr/>
          <p:nvPr/>
        </p:nvSpPr>
        <p:spPr>
          <a:xfrm>
            <a:off x="2260080" y="1797840"/>
            <a:ext cx="403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"/>
          <p:cNvSpPr/>
          <p:nvPr/>
        </p:nvSpPr>
        <p:spPr>
          <a:xfrm>
            <a:off x="3534480" y="1797840"/>
            <a:ext cx="502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ià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4822560" y="1797840"/>
            <a:ext cx="653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shé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6464520" y="1797840"/>
            <a:ext cx="550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jiǎ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4"/>
          <p:cNvSpPr/>
          <p:nvPr/>
        </p:nvSpPr>
        <p:spPr>
          <a:xfrm>
            <a:off x="7858440" y="1797840"/>
            <a:ext cx="394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dě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2"/>
          <p:cNvSpPr/>
          <p:nvPr/>
        </p:nvSpPr>
        <p:spPr>
          <a:xfrm>
            <a:off x="978840" y="3324600"/>
            <a:ext cx="3398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4"/>
          <p:cNvSpPr/>
          <p:nvPr/>
        </p:nvSpPr>
        <p:spPr>
          <a:xfrm>
            <a:off x="2032920" y="3324600"/>
            <a:ext cx="403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qi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7"/>
          <p:cNvSpPr/>
          <p:nvPr/>
        </p:nvSpPr>
        <p:spPr>
          <a:xfrm>
            <a:off x="3166560" y="3324600"/>
            <a:ext cx="324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x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8"/>
          <p:cNvSpPr/>
          <p:nvPr/>
        </p:nvSpPr>
        <p:spPr>
          <a:xfrm>
            <a:off x="4451040" y="3324600"/>
            <a:ext cx="440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pá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9"/>
          <p:cNvSpPr/>
          <p:nvPr/>
        </p:nvSpPr>
        <p:spPr>
          <a:xfrm>
            <a:off x="5631120" y="3324600"/>
            <a:ext cx="394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l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0"/>
          <p:cNvSpPr/>
          <p:nvPr/>
        </p:nvSpPr>
        <p:spPr>
          <a:xfrm>
            <a:off x="6897960" y="3324600"/>
            <a:ext cx="440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li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1"/>
          <p:cNvSpPr/>
          <p:nvPr/>
        </p:nvSpPr>
        <p:spPr>
          <a:xfrm>
            <a:off x="7882920" y="3324600"/>
            <a:ext cx="495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ù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矩形: 圆角 17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16" name="文本框 108"/>
          <p:cNvSpPr/>
          <p:nvPr/>
        </p:nvSpPr>
        <p:spPr>
          <a:xfrm>
            <a:off x="6186240" y="563040"/>
            <a:ext cx="1818000" cy="432360"/>
          </a:xfrm>
          <a:prstGeom prst="cloudCallout">
            <a:avLst>
              <a:gd name="adj1" fmla="val 41188"/>
              <a:gd name="adj2" fmla="val 66326"/>
            </a:avLst>
          </a:prstGeom>
          <a:solidFill>
            <a:schemeClr val="bg1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会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31"/>
          <p:cNvSpPr/>
          <p:nvPr/>
        </p:nvSpPr>
        <p:spPr>
          <a:xfrm>
            <a:off x="1489320" y="2148480"/>
            <a:ext cx="6988680" cy="102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跳 绳    踢 足 球  讲 故 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听 音 乐  打 排  球 玩 游 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2"/>
          <p:cNvSpPr/>
          <p:nvPr/>
        </p:nvSpPr>
        <p:spPr>
          <a:xfrm>
            <a:off x="1783440" y="1897920"/>
            <a:ext cx="1018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iào shé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3"/>
          <p:cNvSpPr/>
          <p:nvPr/>
        </p:nvSpPr>
        <p:spPr>
          <a:xfrm>
            <a:off x="4310280" y="1897920"/>
            <a:ext cx="1118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ī    zú   qi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4"/>
          <p:cNvSpPr/>
          <p:nvPr/>
        </p:nvSpPr>
        <p:spPr>
          <a:xfrm>
            <a:off x="6461640" y="1897920"/>
            <a:ext cx="1238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jiǎnɡ  ɡù  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5"/>
          <p:cNvSpPr/>
          <p:nvPr/>
        </p:nvSpPr>
        <p:spPr>
          <a:xfrm>
            <a:off x="1938600" y="3201120"/>
            <a:ext cx="1199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īnɡ  yīn  yu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6"/>
          <p:cNvSpPr/>
          <p:nvPr/>
        </p:nvSpPr>
        <p:spPr>
          <a:xfrm>
            <a:off x="4207320" y="3201120"/>
            <a:ext cx="1190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dǎ   pái    qi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7"/>
          <p:cNvSpPr/>
          <p:nvPr/>
        </p:nvSpPr>
        <p:spPr>
          <a:xfrm>
            <a:off x="6407280" y="3201120"/>
            <a:ext cx="121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wán   yóu  x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矩形: 圆角 10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126" name="文本框 11"/>
          <p:cNvSpPr/>
          <p:nvPr/>
        </p:nvSpPr>
        <p:spPr>
          <a:xfrm>
            <a:off x="6186240" y="563040"/>
            <a:ext cx="1818000" cy="432360"/>
          </a:xfrm>
          <a:prstGeom prst="cloudCallout">
            <a:avLst>
              <a:gd name="adj1" fmla="val 41188"/>
              <a:gd name="adj2" fmla="val 66326"/>
            </a:avLst>
          </a:prstGeom>
          <a:solidFill>
            <a:schemeClr val="bg1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会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223720" y="2085840"/>
            <a:ext cx="76572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d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2223720" y="1027440"/>
            <a:ext cx="6552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dě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2223720" y="1488600"/>
            <a:ext cx="6284520" cy="370440"/>
          </a:xfrm>
          <a:prstGeom prst="rect">
            <a:avLst/>
          </a:prstGeom>
          <a:solidFill>
            <a:schemeClr val="bg1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得亏我提前做好了复习，不然的话，这次考试，可就得考砸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0"/>
          <p:cNvSpPr/>
          <p:nvPr/>
        </p:nvSpPr>
        <p:spPr>
          <a:xfrm>
            <a:off x="767880" y="1027440"/>
            <a:ext cx="1173240" cy="369000"/>
          </a:xfrm>
          <a:prstGeom prst="plaque">
            <a:avLst>
              <a:gd name="adj" fmla="val 16667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多音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5"/>
          <p:cNvSpPr/>
          <p:nvPr/>
        </p:nvSpPr>
        <p:spPr>
          <a:xfrm>
            <a:off x="2726640" y="2550960"/>
            <a:ext cx="713520" cy="263880"/>
          </a:xfrm>
          <a:prstGeom prst="rect">
            <a:avLst/>
          </a:prstGeom>
          <a:solidFill>
            <a:schemeClr val="bg1"/>
          </a:solidFill>
          <a:ln w="0">
            <a:solidFill>
              <a:srgbClr val="9d9d9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得到    得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86"/>
          <p:cNvGrpSpPr/>
          <p:nvPr/>
        </p:nvGrpSpPr>
        <p:grpSpPr>
          <a:xfrm>
            <a:off x="1106640" y="1671840"/>
            <a:ext cx="680400" cy="636840"/>
            <a:chOff x="1106640" y="1671840"/>
            <a:chExt cx="680400" cy="636840"/>
          </a:xfrm>
        </p:grpSpPr>
        <p:sp>
          <p:nvSpPr>
            <p:cNvPr id="133" name="椭圆 87"/>
            <p:cNvSpPr/>
            <p:nvPr/>
          </p:nvSpPr>
          <p:spPr>
            <a:xfrm>
              <a:off x="1106640" y="1671840"/>
              <a:ext cx="680400" cy="6368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9d9d9d"/>
              </a:solidFill>
            </a:ln>
            <a:effectLst>
              <a:outerShdw algn="tr" blurRad="444600" dir="8100000" dist="254049" rotWithShape="0">
                <a:srgbClr val="000000">
                  <a:alpha val="5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134" name="Rectangle 2"/>
            <p:cNvSpPr/>
            <p:nvPr/>
          </p:nvSpPr>
          <p:spPr>
            <a:xfrm>
              <a:off x="1139760" y="1768680"/>
              <a:ext cx="613800" cy="463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" name="矩形: 圆角 10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grpSp>
        <p:nvGrpSpPr>
          <p:cNvPr id="137" name="组合 23"/>
          <p:cNvGrpSpPr/>
          <p:nvPr/>
        </p:nvGrpSpPr>
        <p:grpSpPr>
          <a:xfrm>
            <a:off x="3402720" y="3113280"/>
            <a:ext cx="746640" cy="1446120"/>
            <a:chOff x="3402720" y="3113280"/>
            <a:chExt cx="746640" cy="1446120"/>
          </a:xfrm>
        </p:grpSpPr>
        <p:sp>
          <p:nvSpPr>
            <p:cNvPr id="138" name="矩形 24"/>
            <p:cNvSpPr/>
            <p:nvPr/>
          </p:nvSpPr>
          <p:spPr>
            <a:xfrm>
              <a:off x="3402720" y="3113280"/>
              <a:ext cx="7466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7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zě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6"/>
            <p:cNvSpPr/>
            <p:nvPr/>
          </p:nvSpPr>
          <p:spPr>
            <a:xfrm>
              <a:off x="3409920" y="3646800"/>
              <a:ext cx="731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54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怎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6"/>
          <p:cNvSpPr/>
          <p:nvPr/>
        </p:nvSpPr>
        <p:spPr>
          <a:xfrm>
            <a:off x="5861520" y="3828960"/>
            <a:ext cx="73188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7"/>
          <p:cNvSpPr/>
          <p:nvPr/>
        </p:nvSpPr>
        <p:spPr>
          <a:xfrm>
            <a:off x="3371040" y="4100400"/>
            <a:ext cx="790920" cy="375120"/>
          </a:xfrm>
          <a:prstGeom prst="rect">
            <a:avLst/>
          </a:prstGeom>
          <a:noFill/>
          <a:ln>
            <a:solidFill>
              <a:srgbClr val="0000ff"/>
            </a:solidFill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142" name="右箭头 12"/>
          <p:cNvSpPr/>
          <p:nvPr/>
        </p:nvSpPr>
        <p:spPr>
          <a:xfrm>
            <a:off x="4440240" y="3652200"/>
            <a:ext cx="1198080" cy="711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9d9d9d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换一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9"/>
          <p:cNvSpPr/>
          <p:nvPr/>
        </p:nvSpPr>
        <p:spPr>
          <a:xfrm>
            <a:off x="5861520" y="4006800"/>
            <a:ext cx="365760" cy="599760"/>
          </a:xfrm>
          <a:prstGeom prst="rect">
            <a:avLst/>
          </a:prstGeom>
          <a:noFill/>
          <a:ln>
            <a:solidFill>
              <a:srgbClr val="0000ff"/>
            </a:solidFill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5874480" y="3034800"/>
            <a:ext cx="73188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1"/>
          <p:cNvSpPr/>
          <p:nvPr/>
        </p:nvSpPr>
        <p:spPr>
          <a:xfrm>
            <a:off x="5874480" y="3212640"/>
            <a:ext cx="365760" cy="599760"/>
          </a:xfrm>
          <a:prstGeom prst="rect">
            <a:avLst/>
          </a:prstGeom>
          <a:noFill/>
          <a:ln>
            <a:solidFill>
              <a:srgbClr val="0000ff"/>
            </a:solidFill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146" name="椭圆 32"/>
          <p:cNvSpPr/>
          <p:nvPr/>
        </p:nvSpPr>
        <p:spPr>
          <a:xfrm>
            <a:off x="812880" y="3564720"/>
            <a:ext cx="1430280" cy="495360"/>
          </a:xfrm>
          <a:prstGeom prst="ellipse">
            <a:avLst/>
          </a:prstGeom>
          <a:solidFill>
            <a:schemeClr val="bg1"/>
          </a:solidFill>
          <a:ln>
            <a:solidFill>
              <a:srgbClr val="9d9d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等线"/>
              </a:rPr>
              <a:t>换一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61"/>
          <p:cNvSpPr/>
          <p:nvPr/>
        </p:nvSpPr>
        <p:spPr>
          <a:xfrm>
            <a:off x="1556280" y="1837440"/>
            <a:ext cx="431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366280" y="1512000"/>
            <a:ext cx="5313240" cy="116424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99"/>
          <p:cNvSpPr/>
          <p:nvPr/>
        </p:nvSpPr>
        <p:spPr>
          <a:xfrm>
            <a:off x="891720" y="3339360"/>
            <a:ext cx="760896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形声字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上形下声，竹表义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表示篮子大多用竹篾编成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监表声。本义是大熏笼，用竹篾或荆条编成，可以熏衣服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矩形: 圆角 6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Group 47"/>
          <p:cNvGraphicFramePr/>
          <p:nvPr/>
        </p:nvGraphicFramePr>
        <p:xfrm>
          <a:off x="2325600" y="189684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Group 47"/>
          <p:cNvGraphicFramePr/>
          <p:nvPr/>
        </p:nvGraphicFramePr>
        <p:xfrm>
          <a:off x="3698640" y="189684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Group 47"/>
          <p:cNvGraphicFramePr/>
          <p:nvPr/>
        </p:nvGraphicFramePr>
        <p:xfrm>
          <a:off x="5041800" y="190908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Group 47"/>
          <p:cNvGraphicFramePr/>
          <p:nvPr/>
        </p:nvGraphicFramePr>
        <p:xfrm>
          <a:off x="6370920" y="189684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Group 47"/>
          <p:cNvGraphicFramePr/>
          <p:nvPr/>
        </p:nvGraphicFramePr>
        <p:xfrm>
          <a:off x="2318760" y="3118680"/>
          <a:ext cx="673560" cy="675000"/>
        </p:xfrm>
        <a:graphic>
          <a:graphicData uri="http://schemas.openxmlformats.org/drawingml/2006/table">
            <a:tbl>
              <a:tblPr/>
              <a:tblGrid>
                <a:gridCol w="334080"/>
                <a:gridCol w="33948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Group 47"/>
          <p:cNvGraphicFramePr/>
          <p:nvPr/>
        </p:nvGraphicFramePr>
        <p:xfrm>
          <a:off x="3692520" y="3110040"/>
          <a:ext cx="673560" cy="675000"/>
        </p:xfrm>
        <a:graphic>
          <a:graphicData uri="http://schemas.openxmlformats.org/drawingml/2006/table">
            <a:tbl>
              <a:tblPr/>
              <a:tblGrid>
                <a:gridCol w="334080"/>
                <a:gridCol w="33948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Group 47"/>
          <p:cNvGraphicFramePr/>
          <p:nvPr/>
        </p:nvGraphicFramePr>
        <p:xfrm>
          <a:off x="5049720" y="311868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59" name="矩形 44">
            <a:hlinkClick r:id="rId1" action="ppaction://hlinksldjump"/>
          </p:cNvPr>
          <p:cNvSpPr/>
          <p:nvPr/>
        </p:nvSpPr>
        <p:spPr>
          <a:xfrm>
            <a:off x="2543040" y="190188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5"/>
          <p:cNvSpPr/>
          <p:nvPr/>
        </p:nvSpPr>
        <p:spPr>
          <a:xfrm>
            <a:off x="3909600" y="190044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6">
            <a:hlinkClick r:id="rId2" action="ppaction://hlinksldjump"/>
          </p:cNvPr>
          <p:cNvSpPr/>
          <p:nvPr/>
        </p:nvSpPr>
        <p:spPr>
          <a:xfrm>
            <a:off x="5259600" y="191268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7">
            <a:hlinkClick r:id="rId3" action="ppaction://hlinksldjump"/>
          </p:cNvPr>
          <p:cNvSpPr/>
          <p:nvPr/>
        </p:nvSpPr>
        <p:spPr>
          <a:xfrm>
            <a:off x="6581880" y="190044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50"/>
          <p:cNvSpPr/>
          <p:nvPr/>
        </p:nvSpPr>
        <p:spPr>
          <a:xfrm>
            <a:off x="2535840" y="312264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51"/>
          <p:cNvSpPr/>
          <p:nvPr/>
        </p:nvSpPr>
        <p:spPr>
          <a:xfrm>
            <a:off x="3906720" y="31086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2"/>
          <p:cNvSpPr/>
          <p:nvPr/>
        </p:nvSpPr>
        <p:spPr>
          <a:xfrm>
            <a:off x="5267880" y="312588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" name="矩形: 圆角 17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delay="0" evt="onClick">
                    <p:tgtEl>
                      <p:spTgt spid="159"/>
                    </p:tgtEl>
                  </p:cond>
                </p:stCondLst>
                <p:childTnLst>
                  <p:par>
                    <p:cTn id="260" fill="hold">
                      <p:stCondLst>
                        <p:cond delay="0"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delay="0" evt="onClick">
                    <p:tgtEl>
                      <p:spTgt spid="160"/>
                    </p:tgtEl>
                  </p:cond>
                </p:stCondLst>
                <p:childTnLst>
                  <p:par>
                    <p:cTn id="267" fill="hold">
                      <p:stCondLst>
                        <p:cond delay="0"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delay="0" evt="onClick">
                    <p:tgtEl>
                      <p:spTgt spid="161"/>
                    </p:tgtEl>
                  </p:cond>
                </p:stCondLst>
                <p:childTnLst>
                  <p:par>
                    <p:cTn id="274" fill="hold">
                      <p:stCondLst>
                        <p:cond delay="0"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delay="0" evt="onClick">
                    <p:tgtEl>
                      <p:spTgt spid="162"/>
                    </p:tgtEl>
                  </p:cond>
                </p:stCondLst>
                <p:childTnLst>
                  <p:par>
                    <p:cTn id="281" fill="hold">
                      <p:stCondLst>
                        <p:cond delay="0"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delay="0" evt="onClick">
                    <p:tgtEl>
                      <p:spTgt spid="163"/>
                    </p:tgtEl>
                  </p:cond>
                </p:stCondLst>
                <p:childTnLst>
                  <p:par>
                    <p:cTn id="288" fill="hold">
                      <p:stCondLst>
                        <p:cond delay="0"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delay="0" evt="onClick">
                    <p:tgtEl>
                      <p:spTgt spid="164"/>
                    </p:tgtEl>
                  </p:cond>
                </p:stCondLst>
                <p:childTnLst>
                  <p:par>
                    <p:cTn id="295" fill="hold">
                      <p:stCondLst>
                        <p:cond delay="0"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delay="0" evt="onClick">
                    <p:tgtEl>
                      <p:spTgt spid="165"/>
                    </p:tgtEl>
                  </p:cond>
                </p:stCondLst>
                <p:childTnLst>
                  <p:par>
                    <p:cTn id="302" fill="hold">
                      <p:stCondLst>
                        <p:cond delay="0"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38"/>
          <p:cNvSpPr/>
          <p:nvPr/>
        </p:nvSpPr>
        <p:spPr>
          <a:xfrm>
            <a:off x="7152840" y="1307880"/>
            <a:ext cx="93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w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3832200" y="1940040"/>
            <a:ext cx="15955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"/>
          <p:cNvSpPr/>
          <p:nvPr/>
        </p:nvSpPr>
        <p:spPr>
          <a:xfrm>
            <a:off x="4638960" y="1940040"/>
            <a:ext cx="443160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玩耍   玩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妈妈又给弟弟买了新玩具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Group 47"/>
          <p:cNvGraphicFramePr/>
          <p:nvPr/>
        </p:nvGraphicFramePr>
        <p:xfrm>
          <a:off x="7144560" y="184032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72" name="矩形 52"/>
          <p:cNvSpPr/>
          <p:nvPr/>
        </p:nvSpPr>
        <p:spPr>
          <a:xfrm>
            <a:off x="7362720" y="184752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184040" y="1745640"/>
            <a:ext cx="2333160" cy="2204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46320" y="237960"/>
            <a:ext cx="1674720" cy="3484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02  </a:t>
            </a:r>
            <a:r>
              <a:rPr b="1" lang="zh-CN" sz="1500" spc="-1" strike="noStrike">
                <a:solidFill>
                  <a:srgbClr val="262626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" name="矩形: 圆角 8"/>
          <p:cNvSpPr/>
          <p:nvPr/>
        </p:nvSpPr>
        <p:spPr>
          <a:xfrm>
            <a:off x="485640" y="849240"/>
            <a:ext cx="8172000" cy="3911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fffff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73"/>
                </p:tgtEl>
              </p:cMediaNode>
            </p:video>
            <p:seq>
              <p:cTn id="337" restart="whenNotActive" nodeType="interactiveSeq" fill="hold">
                <p:stCondLst>
                  <p:cond delay="0" evt="onClick">
                    <p:tgtEl>
                      <p:spTgt spid="173"/>
                    </p:tgtEl>
                  </p:cond>
                </p:stCondLst>
                <p:childTnLst>
                  <p:par>
                    <p:cTn id="338" fill="hold">
                      <p:stCondLst>
                        <p:cond delay="0"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1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2158</Words>
  <Paragraphs>3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5T01:58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9-15T05:59:01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  <property fmtid="{D5CDD505-2E9C-101B-9397-08002B2CF9AE}" pid="3" name="MMClips">
    <vt:r8>7</vt:r8>
  </property>
  <property fmtid="{D5CDD505-2E9C-101B-9397-08002B2CF9AE}" pid="4" name="Notes">
    <vt:r8>31</vt:r8>
  </property>
  <property fmtid="{D5CDD505-2E9C-101B-9397-08002B2CF9AE}" pid="5" name="PresentationFormat">
    <vt:lpwstr>全屏显示(16:9)</vt:lpwstr>
  </property>
  <property fmtid="{D5CDD505-2E9C-101B-9397-08002B2CF9AE}" pid="6" name="Slides">
    <vt:r8>32</vt:r8>
  </property>
</Properties>
</file>