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7.jpeg" ContentType="image/jpeg"/>
  <Override PartName="/ppt/media/image38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BD993F-52E6-4874-9190-292049FDA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4D62F7-BBE2-4F28-8C76-40E3EEA10A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FC50-33D5-4A7A-A477-79E53269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76AA-431B-4034-B1C8-536355FF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6773-2615-4E3C-B5D7-3DB862D0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4341-4CEA-4294-9FF1-6FB9861B4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B8DD-F9D2-4AE9-8E95-078B4E6C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0F51-D517-4DF2-8552-DF7E9C55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408F-92B6-46CA-8EF1-17828CFB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59F7-9605-4527-AD59-DFE4781A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3F50-D5D3-4594-BBF1-505F6FCF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71B9-465F-40FF-8408-FAAB0B3E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44AD-1ACF-4EAC-BD05-29F90DB2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44B0-CF3C-44A9-8493-4C235D0A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2B290E6-5D98-4EB4-9CF1-922D9A41526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Administrator\My Documents\祝你生日快乐\2531170_222058326000_2.jpg2531170_222058326000_2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1"/>
          <p:cNvSpPr/>
          <p:nvPr/>
        </p:nvSpPr>
        <p:spPr>
          <a:xfrm>
            <a:off x="0" y="1100160"/>
            <a:ext cx="9143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祝你生日快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825120" y="6136560"/>
            <a:ext cx="36439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0" descr="C:\Users\Administrator\Desktop\PPT\ppt背景\背景1 (23).jpg背景1 (23)"/>
          <p:cNvPicPr/>
          <p:nvPr/>
        </p:nvPicPr>
        <p:blipFill>
          <a:blip r:embed="rId1"/>
          <a:stretch/>
        </p:blipFill>
        <p:spPr>
          <a:xfrm>
            <a:off x="-25560" y="515880"/>
            <a:ext cx="9178560" cy="59446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6"/>
          <p:cNvSpPr/>
          <p:nvPr/>
        </p:nvSpPr>
        <p:spPr>
          <a:xfrm>
            <a:off x="684360" y="1995480"/>
            <a:ext cx="8073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班级来了新同学，他穿的很（            ），同学的眼里透着（            ），他（                  ）地站在讲台上，教室里的气氛很（           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7"/>
          <p:cNvSpPr/>
          <p:nvPr/>
        </p:nvSpPr>
        <p:spPr>
          <a:xfrm>
            <a:off x="5450040" y="2130480"/>
            <a:ext cx="1083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寒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9"/>
          <p:cNvSpPr/>
          <p:nvPr/>
        </p:nvSpPr>
        <p:spPr>
          <a:xfrm>
            <a:off x="3780000" y="1203480"/>
            <a:ext cx="1304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用一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7"/>
          <p:cNvSpPr/>
          <p:nvPr/>
        </p:nvSpPr>
        <p:spPr>
          <a:xfrm>
            <a:off x="1776240" y="2674800"/>
            <a:ext cx="1083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轻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7"/>
          <p:cNvSpPr/>
          <p:nvPr/>
        </p:nvSpPr>
        <p:spPr>
          <a:xfrm>
            <a:off x="2658960" y="3213000"/>
            <a:ext cx="108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尴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7"/>
          <p:cNvSpPr/>
          <p:nvPr/>
        </p:nvSpPr>
        <p:spPr>
          <a:xfrm>
            <a:off x="3987720" y="2693880"/>
            <a:ext cx="149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知所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7" descr="D:\英才ppt资料\背景\201482723522928107.jpg201482723522928107"/>
          <p:cNvPicPr/>
          <p:nvPr/>
        </p:nvPicPr>
        <p:blipFill>
          <a:blip r:embed="rId1"/>
          <a:stretch/>
        </p:blipFill>
        <p:spPr>
          <a:xfrm>
            <a:off x="9360" y="525600"/>
            <a:ext cx="9134280" cy="5917680"/>
          </a:xfrm>
          <a:prstGeom prst="rect">
            <a:avLst/>
          </a:prstGeom>
          <a:ln w="0">
            <a:noFill/>
          </a:ln>
        </p:spPr>
      </p:pic>
      <p:sp>
        <p:nvSpPr>
          <p:cNvPr id="110" name="矩形 9"/>
          <p:cNvSpPr/>
          <p:nvPr/>
        </p:nvSpPr>
        <p:spPr>
          <a:xfrm>
            <a:off x="1476360" y="1628640"/>
            <a:ext cx="660852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读课文，试着填一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《祝你生日快乐》主要讲述了“我”为“我”的朋友约翰生日无人过问担忧，而“我”的妈妈出乎意料地买来蛋糕为约翰庆祝生日这件事，赞扬了“我”和妈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               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              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品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4"/>
          <p:cNvSpPr/>
          <p:nvPr/>
        </p:nvSpPr>
        <p:spPr>
          <a:xfrm>
            <a:off x="324000" y="620640"/>
            <a:ext cx="2982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整体感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4140360" y="4065480"/>
            <a:ext cx="2390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真诚地对待朋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1619280" y="4581360"/>
            <a:ext cx="2390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热诚地关爱朋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7" descr="D:\英才ppt资料\背景\背景44.jpg背景44"/>
          <p:cNvPicPr/>
          <p:nvPr/>
        </p:nvPicPr>
        <p:blipFill>
          <a:blip r:embed="rId1"/>
          <a:stretch/>
        </p:blipFill>
        <p:spPr>
          <a:xfrm>
            <a:off x="0" y="485640"/>
            <a:ext cx="9091080" cy="5994000"/>
          </a:xfrm>
          <a:prstGeom prst="rect">
            <a:avLst/>
          </a:prstGeom>
          <a:ln w="0">
            <a:noFill/>
          </a:ln>
        </p:spPr>
      </p:pic>
      <p:sp>
        <p:nvSpPr>
          <p:cNvPr id="115" name="矩形 9"/>
          <p:cNvSpPr/>
          <p:nvPr/>
        </p:nvSpPr>
        <p:spPr>
          <a:xfrm>
            <a:off x="252360" y="1484280"/>
            <a:ext cx="8353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文中，我对约翰的态度发生了很大的变化，找一找反映“我”态度的句子，并感受其中的变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标题 1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2376000" cy="837720"/>
          </a:xfrm>
          <a:prstGeom prst="rect">
            <a:avLst/>
          </a:prstGeom>
          <a:ln w="0">
            <a:noFill/>
          </a:ln>
        </p:spPr>
      </p:pic>
      <p:sp>
        <p:nvSpPr>
          <p:cNvPr id="117" name="矩形 9"/>
          <p:cNvSpPr/>
          <p:nvPr/>
        </p:nvSpPr>
        <p:spPr>
          <a:xfrm>
            <a:off x="611280" y="2637000"/>
            <a:ext cx="8353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他坐下的时候看了我一眼，我故意避开了他的目光，免得他心存幻想，以为我可以成为他的朋友。——毫无好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9"/>
          <p:cNvSpPr/>
          <p:nvPr/>
        </p:nvSpPr>
        <p:spPr>
          <a:xfrm>
            <a:off x="612720" y="3860640"/>
            <a:ext cx="8353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得怪他自己。”有一次吃晚饭的时候我对妈妈说，“他几乎连数数都不会。”——轻视与同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9"/>
          <p:cNvSpPr/>
          <p:nvPr/>
        </p:nvSpPr>
        <p:spPr>
          <a:xfrm>
            <a:off x="684360" y="5084640"/>
            <a:ext cx="8353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时我想，也许平时大家对他的嘲弄和讥笑是没有根据的，是不公平的。——同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7" descr="F:\PPT 背景图片\200936045256510.jpg200936045256510"/>
          <p:cNvPicPr/>
          <p:nvPr/>
        </p:nvPicPr>
        <p:blipFill>
          <a:blip r:embed="rId1"/>
          <a:stretch/>
        </p:blipFill>
        <p:spPr>
          <a:xfrm>
            <a:off x="7920" y="485640"/>
            <a:ext cx="9104040" cy="5976720"/>
          </a:xfrm>
          <a:prstGeom prst="rect">
            <a:avLst/>
          </a:prstGeom>
          <a:ln w="0">
            <a:noFill/>
          </a:ln>
        </p:spPr>
      </p:pic>
      <p:sp>
        <p:nvSpPr>
          <p:cNvPr id="121" name="矩形 9"/>
          <p:cNvSpPr/>
          <p:nvPr/>
        </p:nvSpPr>
        <p:spPr>
          <a:xfrm>
            <a:off x="396720" y="1052640"/>
            <a:ext cx="8353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当我们走回教室的时候，我心想，约翰再也不会没有朋友了，我要做他的朋友。——接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9"/>
          <p:cNvSpPr/>
          <p:nvPr/>
        </p:nvSpPr>
        <p:spPr>
          <a:xfrm>
            <a:off x="396720" y="2347920"/>
            <a:ext cx="8353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.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妈妈，明天是约翰的生日，我担心他什么也得不到。没有蛋糕，没有礼物，什么也没有。谁也不会关心他是不是过生日。”——替他担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9"/>
          <p:cNvSpPr/>
          <p:nvPr/>
        </p:nvSpPr>
        <p:spPr>
          <a:xfrm>
            <a:off x="468360" y="4149720"/>
            <a:ext cx="8353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一见到约翰就祝他生日快乐。——祝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9"/>
          <p:cNvSpPr/>
          <p:nvPr/>
        </p:nvSpPr>
        <p:spPr>
          <a:xfrm>
            <a:off x="684360" y="5013360"/>
            <a:ext cx="593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想起约翰眼里闪耀的光彩。——想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7" descr="C:\Users\Administrator\Desktop\PPT\ppt背景\背景1 (28).jpg背景1 (28)"/>
          <p:cNvPicPr/>
          <p:nvPr/>
        </p:nvPicPr>
        <p:blipFill>
          <a:blip r:embed="rId1"/>
          <a:stretch/>
        </p:blipFill>
        <p:spPr>
          <a:xfrm>
            <a:off x="-4680" y="482760"/>
            <a:ext cx="9131040" cy="5974920"/>
          </a:xfrm>
          <a:prstGeom prst="rect">
            <a:avLst/>
          </a:prstGeom>
          <a:ln w="0">
            <a:noFill/>
          </a:ln>
        </p:spPr>
      </p:pic>
      <p:sp>
        <p:nvSpPr>
          <p:cNvPr id="126" name="矩形 9"/>
          <p:cNvSpPr/>
          <p:nvPr/>
        </p:nvSpPr>
        <p:spPr>
          <a:xfrm>
            <a:off x="612720" y="1557360"/>
            <a:ext cx="70862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简单叙述每部分的主要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标题 1"/>
          <p:cNvSpPr/>
          <p:nvPr/>
        </p:nvSpPr>
        <p:spPr>
          <a:xfrm>
            <a:off x="3635280" y="836640"/>
            <a:ext cx="2376000" cy="8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段落大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9"/>
          <p:cNvSpPr/>
          <p:nvPr/>
        </p:nvSpPr>
        <p:spPr>
          <a:xfrm>
            <a:off x="1401840" y="2349360"/>
            <a:ext cx="70862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一部分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-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   初次相见，冷漠排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9"/>
          <p:cNvSpPr/>
          <p:nvPr/>
        </p:nvSpPr>
        <p:spPr>
          <a:xfrm>
            <a:off x="1401840" y="3070080"/>
            <a:ext cx="70862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二部分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-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   逐渐相知，成为好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9"/>
          <p:cNvSpPr/>
          <p:nvPr/>
        </p:nvSpPr>
        <p:spPr>
          <a:xfrm>
            <a:off x="1401840" y="3789360"/>
            <a:ext cx="70862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三部分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1-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   祝福生日，热诚关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9"/>
          <p:cNvSpPr/>
          <p:nvPr/>
        </p:nvSpPr>
        <p:spPr>
          <a:xfrm>
            <a:off x="1481040" y="4506840"/>
            <a:ext cx="70862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四部分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   离别想念，深受感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7" descr="D:\英才ppt资料\背景\背景13.jpg背景13"/>
          <p:cNvPicPr/>
          <p:nvPr/>
        </p:nvPicPr>
        <p:blipFill>
          <a:blip r:embed="rId1"/>
          <a:stretch/>
        </p:blipFill>
        <p:spPr>
          <a:xfrm>
            <a:off x="-4680" y="482760"/>
            <a:ext cx="9131040" cy="59749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0"/>
          <p:cNvSpPr/>
          <p:nvPr/>
        </p:nvSpPr>
        <p:spPr>
          <a:xfrm>
            <a:off x="1403280" y="2847960"/>
            <a:ext cx="5331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祝你生日快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2916360" y="2416320"/>
            <a:ext cx="3812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初到：同学嘲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同桌：成为朋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生日：妈妈祝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离去：难忘生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1"/>
          <p:cNvSpPr/>
          <p:nvPr/>
        </p:nvSpPr>
        <p:spPr>
          <a:xfrm>
            <a:off x="6303960" y="3711600"/>
            <a:ext cx="1658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780000" y="1123920"/>
            <a:ext cx="2842920" cy="8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构图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左大括号 1"/>
          <p:cNvSpPr/>
          <p:nvPr/>
        </p:nvSpPr>
        <p:spPr>
          <a:xfrm>
            <a:off x="2195640" y="2789280"/>
            <a:ext cx="237600" cy="2518920"/>
          </a:xfrm>
          <a:prstGeom prst="leftBrace">
            <a:avLst>
              <a:gd name="adj1" fmla="val 136756"/>
              <a:gd name="adj2" fmla="val 50000"/>
            </a:avLst>
          </a:prstGeom>
          <a:noFill/>
          <a:ln w="28575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8" name="右大括号 2"/>
          <p:cNvSpPr/>
          <p:nvPr/>
        </p:nvSpPr>
        <p:spPr>
          <a:xfrm>
            <a:off x="5943600" y="2705040"/>
            <a:ext cx="183960" cy="2503080"/>
          </a:xfrm>
          <a:prstGeom prst="rightBrace">
            <a:avLst>
              <a:gd name="adj1" fmla="val 132235"/>
              <a:gd name="adj2" fmla="val 49625"/>
            </a:avLst>
          </a:prstGeom>
          <a:noFill/>
          <a:ln w="28575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7" descr="D:\英才ppt资料\背景\ppt707.jpgppt707"/>
          <p:cNvPicPr/>
          <p:nvPr/>
        </p:nvPicPr>
        <p:blipFill>
          <a:blip r:embed="rId1"/>
          <a:stretch/>
        </p:blipFill>
        <p:spPr>
          <a:xfrm>
            <a:off x="-15840" y="487440"/>
            <a:ext cx="9143640" cy="5932080"/>
          </a:xfrm>
          <a:prstGeom prst="rect">
            <a:avLst/>
          </a:prstGeom>
          <a:ln w="0">
            <a:noFill/>
          </a:ln>
        </p:spPr>
      </p:pic>
      <p:sp>
        <p:nvSpPr>
          <p:cNvPr id="140" name="矩形 9"/>
          <p:cNvSpPr/>
          <p:nvPr/>
        </p:nvSpPr>
        <p:spPr>
          <a:xfrm>
            <a:off x="252360" y="2852640"/>
            <a:ext cx="8642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①②段分别从哪两个角度描写了约翰很贫穷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"/>
          <p:cNvSpPr/>
          <p:nvPr/>
        </p:nvSpPr>
        <p:spPr>
          <a:xfrm>
            <a:off x="684360" y="3422520"/>
            <a:ext cx="7651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①段通过外貌描写介绍约翰的穿着很寒酸，第②段介绍了约翰的家庭状况：约翰的父母是黑人移民，他家收入微薄，几乎难以维持生活。两相照应，说明了约翰家很贫穷，交代了故事的背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矩形 4" descr=""/>
          <p:cNvPicPr/>
          <p:nvPr/>
        </p:nvPicPr>
        <p:blipFill>
          <a:blip r:embed="rId2"/>
          <a:stretch/>
        </p:blipFill>
        <p:spPr>
          <a:xfrm>
            <a:off x="162000" y="873000"/>
            <a:ext cx="4136760" cy="885600"/>
          </a:xfrm>
          <a:prstGeom prst="rect">
            <a:avLst/>
          </a:prstGeom>
          <a:ln w="0">
            <a:noFill/>
          </a:ln>
        </p:spPr>
      </p:pic>
      <p:sp>
        <p:nvSpPr>
          <p:cNvPr id="143" name="矩形 9"/>
          <p:cNvSpPr/>
          <p:nvPr/>
        </p:nvSpPr>
        <p:spPr>
          <a:xfrm>
            <a:off x="539640" y="2133720"/>
            <a:ext cx="3998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读课文，思考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7" descr="D:\英才ppt资料\背景\5084.jpg5084"/>
          <p:cNvPicPr/>
          <p:nvPr/>
        </p:nvPicPr>
        <p:blipFill>
          <a:blip r:embed="rId1"/>
          <a:stretch/>
        </p:blipFill>
        <p:spPr>
          <a:xfrm>
            <a:off x="-9360" y="476280"/>
            <a:ext cx="9172080" cy="5994000"/>
          </a:xfrm>
          <a:prstGeom prst="rect">
            <a:avLst/>
          </a:prstGeom>
          <a:ln w="0">
            <a:noFill/>
          </a:ln>
        </p:spPr>
      </p:pic>
      <p:sp>
        <p:nvSpPr>
          <p:cNvPr id="145" name="矩形 9"/>
          <p:cNvSpPr/>
          <p:nvPr/>
        </p:nvSpPr>
        <p:spPr>
          <a:xfrm>
            <a:off x="324000" y="622440"/>
            <a:ext cx="8367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③④段用了哪几个代表性的例子来表现同学们对约翰态度冷漠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2"/>
          <p:cNvSpPr/>
          <p:nvPr/>
        </p:nvSpPr>
        <p:spPr>
          <a:xfrm>
            <a:off x="612720" y="1486080"/>
            <a:ext cx="8184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用了两个例子：有人“窃窃私语，嘲笑他的窘迫寒酸”——面对“可怜极了”的孩子，大家没有同情他，反而轻视、嘲笑他。“我”身后的男孩和一个女孩嘲笑约翰穿着破了洞的鞋子——他们把约翰的衣着破烂当做“笑料”，认为鞋子破了一个洞是“开了天窗”，还自以为说得形象而得意地“咯咯地笑”，这“笑”声是从心里发出的“轻蔑”，是从骨子里流露出的歧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396720" y="4365720"/>
            <a:ext cx="7279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”为什么不想和约翰做朋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2"/>
          <p:cNvSpPr/>
          <p:nvPr/>
        </p:nvSpPr>
        <p:spPr>
          <a:xfrm>
            <a:off x="612720" y="4724280"/>
            <a:ext cx="7943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要有两方面的原因：一是因为约翰家庭条件差，贫穷不堪，衣着寒酸，样子可怜，“我”看不起他；二是因为同学们都嘲笑他，歧视他，以至于“我”对他也没有好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7" descr="F:\PPT 背景图片\35X58PICnYH_1024.jpg35X58PICnYH_1024"/>
          <p:cNvPicPr/>
          <p:nvPr/>
        </p:nvPicPr>
        <p:blipFill>
          <a:blip r:embed="rId1"/>
          <a:stretch/>
        </p:blipFill>
        <p:spPr>
          <a:xfrm>
            <a:off x="-11160" y="533520"/>
            <a:ext cx="9135720" cy="6324120"/>
          </a:xfrm>
          <a:prstGeom prst="rect">
            <a:avLst/>
          </a:prstGeom>
          <a:ln w="0">
            <a:noFill/>
          </a:ln>
        </p:spPr>
      </p:pic>
      <p:sp>
        <p:nvSpPr>
          <p:cNvPr id="150" name="矩形 9"/>
          <p:cNvSpPr/>
          <p:nvPr/>
        </p:nvSpPr>
        <p:spPr>
          <a:xfrm>
            <a:off x="252360" y="1557360"/>
            <a:ext cx="84960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”每天放学回家都向妈妈说明约翰的情况说明“我”已经开始关注约翰了，为后文“我”对约翰的态度的变化埋下伏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9"/>
          <p:cNvSpPr/>
          <p:nvPr/>
        </p:nvSpPr>
        <p:spPr>
          <a:xfrm>
            <a:off x="324000" y="838080"/>
            <a:ext cx="8642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每天放学回家都提起约翰如何如何”，这说明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9"/>
          <p:cNvSpPr/>
          <p:nvPr/>
        </p:nvSpPr>
        <p:spPr>
          <a:xfrm>
            <a:off x="324000" y="2997360"/>
            <a:ext cx="8642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聊天的过程中，“我”对约翰的认识发生了哪些质的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化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324000" y="3860640"/>
            <a:ext cx="84960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是认为他性格好，能使人愉快；二是认为大家对他的嘲弄和讥笑是没有真正了解他，“是不公平的”。在与约翰聊天的过程中“我”重新认识了他，并决定要和他做朋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7" descr="D:\英才ppt资料\背景\背景21.jpg背景21"/>
          <p:cNvPicPr/>
          <p:nvPr/>
        </p:nvPicPr>
        <p:blipFill>
          <a:blip r:embed="rId1"/>
          <a:stretch/>
        </p:blipFill>
        <p:spPr>
          <a:xfrm>
            <a:off x="-6480" y="498600"/>
            <a:ext cx="9143640" cy="5976720"/>
          </a:xfrm>
          <a:prstGeom prst="rect">
            <a:avLst/>
          </a:prstGeom>
          <a:ln w="0">
            <a:noFill/>
          </a:ln>
        </p:spPr>
      </p:pic>
      <p:sp>
        <p:nvSpPr>
          <p:cNvPr id="155" name="矩形 9"/>
          <p:cNvSpPr/>
          <p:nvPr/>
        </p:nvSpPr>
        <p:spPr>
          <a:xfrm>
            <a:off x="252360" y="1486080"/>
            <a:ext cx="84960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个“担心”说明“我”把约翰的事当成自己的事看，“我”希望约翰与“我”和其他孩子一样拥有蛋糕，拥有礼物，拥有快乐。从中可以看出“我”是一个充满爱心的孩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9"/>
          <p:cNvSpPr/>
          <p:nvPr/>
        </p:nvSpPr>
        <p:spPr>
          <a:xfrm>
            <a:off x="252360" y="907920"/>
            <a:ext cx="8642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段写“我”的担心 ，说明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9"/>
          <p:cNvSpPr/>
          <p:nvPr/>
        </p:nvSpPr>
        <p:spPr>
          <a:xfrm>
            <a:off x="252360" y="3211560"/>
            <a:ext cx="8642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从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段中可以看出妈妈是个怎样的人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324000" y="3716280"/>
            <a:ext cx="8496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妈妈是一个细心、富有爱心、善解人意的人。“我”为约翰的生日而发愁，借口身体不舒服，不想上学，妈妈看穿了“我”的心理，劝“我”安心上学，实际上她早做好了给约翰买生日蛋糕为他过生日的打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Administrator\My Documents\祝你生日快乐\2531170_222058326000_2.jpg2531170_222058326000_2"/>
          <p:cNvPicPr/>
          <p:nvPr/>
        </p:nvPicPr>
        <p:blipFill>
          <a:blip r:embed="rId1"/>
          <a:stretch/>
        </p:blipFill>
        <p:spPr>
          <a:xfrm>
            <a:off x="-6480" y="528480"/>
            <a:ext cx="9153000" cy="591480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828720" y="981000"/>
            <a:ext cx="59670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同学们，看到题目你们是不是想起了生日歌的旋律呢？快去看看文中的小朋友约翰的生日是怎么过的吧！让我们一起感受爱的温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7" descr="F:\PPT 背景图片\30h58PICSt5_1024.jpg30h58PICSt5_1024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-6480" y="546120"/>
            <a:ext cx="9143640" cy="5897160"/>
          </a:xfrm>
          <a:prstGeom prst="rect">
            <a:avLst/>
          </a:prstGeom>
          <a:ln w="0">
            <a:noFill/>
          </a:ln>
        </p:spPr>
      </p:pic>
      <p:sp>
        <p:nvSpPr>
          <p:cNvPr id="160" name="矩形 9"/>
          <p:cNvSpPr/>
          <p:nvPr/>
        </p:nvSpPr>
        <p:spPr>
          <a:xfrm>
            <a:off x="252360" y="1844640"/>
            <a:ext cx="84960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句话运用比喻的手法，写出了当“我”的妈妈到教室祝贺约翰生日快乐时约翰的表现，把他当时惊喜、激动的心情真切地描述了出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9"/>
          <p:cNvSpPr/>
          <p:nvPr/>
        </p:nvSpPr>
        <p:spPr>
          <a:xfrm>
            <a:off x="252360" y="981000"/>
            <a:ext cx="8642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.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约翰像一只被捕获的小鹿一样惊慌不知所措”这句话用了什么修辞手法？有什么表达效果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9"/>
          <p:cNvSpPr/>
          <p:nvPr/>
        </p:nvSpPr>
        <p:spPr>
          <a:xfrm>
            <a:off x="324000" y="4508640"/>
            <a:ext cx="8642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段中的四个“想起”说明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9"/>
          <p:cNvSpPr/>
          <p:nvPr/>
        </p:nvSpPr>
        <p:spPr>
          <a:xfrm>
            <a:off x="324000" y="5011560"/>
            <a:ext cx="84960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四个“想起”说明了妈妈为约翰过生日这件事深深地印在“我”的脑海里，妈妈关爱他人的美好品质深深地影响着“我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9"/>
          <p:cNvSpPr/>
          <p:nvPr/>
        </p:nvSpPr>
        <p:spPr>
          <a:xfrm>
            <a:off x="316080" y="3284640"/>
            <a:ext cx="83484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拨：恰当地运用比喻，可使事物的特征生动形象，具体可感，还可以使语言文采斐然，极富感染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7" descr="D:\英才ppt资料\背景\87bf0a6dc8a0ac79e4e438d5a7feb3b2.jpg87bf0a6dc8a0ac79e4e438d5a7feb3b2"/>
          <p:cNvPicPr/>
          <p:nvPr/>
        </p:nvPicPr>
        <p:blipFill>
          <a:blip r:embed="rId1"/>
          <a:stretch/>
        </p:blipFill>
        <p:spPr>
          <a:xfrm>
            <a:off x="0" y="0"/>
            <a:ext cx="9156240" cy="68576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324000" y="1413000"/>
            <a:ext cx="8353080" cy="1344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文通过对人物语言、动作的描写，表现了人物的品质，我们一起来分析一下是如何表现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4"/>
          <p:cNvSpPr/>
          <p:nvPr/>
        </p:nvSpPr>
        <p:spPr>
          <a:xfrm>
            <a:off x="179280" y="692280"/>
            <a:ext cx="2982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精读课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内容占位符 2"/>
          <p:cNvSpPr/>
          <p:nvPr/>
        </p:nvSpPr>
        <p:spPr>
          <a:xfrm>
            <a:off x="324000" y="2637000"/>
            <a:ext cx="8260920" cy="13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段：“窃窃私语”，表现了同学们的冷漠，反衬了下文中妈妈的热情帮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内容占位符 2"/>
          <p:cNvSpPr/>
          <p:nvPr/>
        </p:nvSpPr>
        <p:spPr>
          <a:xfrm>
            <a:off x="324000" y="3789360"/>
            <a:ext cx="826092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段：通过语言和神态描写刻画了大家对约翰的歧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内容占位符 2"/>
          <p:cNvSpPr/>
          <p:nvPr/>
        </p:nvSpPr>
        <p:spPr>
          <a:xfrm>
            <a:off x="468360" y="4508640"/>
            <a:ext cx="825948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段：“热情、欢快”体现了老师的真诚。老师希望以此来感染学生，希望学生能够从心底接纳这位新同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1" descr="1-140925220PD54"/>
          <p:cNvPicPr/>
          <p:nvPr/>
        </p:nvPicPr>
        <p:blipFill>
          <a:blip r:embed="rId1"/>
          <a:stretch/>
        </p:blipFill>
        <p:spPr>
          <a:xfrm>
            <a:off x="0" y="533520"/>
            <a:ext cx="9138960" cy="5909760"/>
          </a:xfrm>
          <a:prstGeom prst="rect">
            <a:avLst/>
          </a:prstGeom>
          <a:ln w="0">
            <a:noFill/>
          </a:ln>
        </p:spPr>
      </p:pic>
      <p:sp>
        <p:nvSpPr>
          <p:cNvPr id="172" name="内容占位符 2"/>
          <p:cNvSpPr/>
          <p:nvPr/>
        </p:nvSpPr>
        <p:spPr>
          <a:xfrm>
            <a:off x="324000" y="1125360"/>
            <a:ext cx="82609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段：用神态和语言描写刻画了约翰的友好和礼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内容占位符 2"/>
          <p:cNvSpPr/>
          <p:nvPr/>
        </p:nvSpPr>
        <p:spPr>
          <a:xfrm>
            <a:off x="298440" y="1919160"/>
            <a:ext cx="8286480" cy="18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段：妈妈的动作和语言说明妈妈已经做好了为约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翰买蛋糕与礼物的准备，只是因为想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”、给约翰惊喜才没有明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内容占位符 2"/>
          <p:cNvSpPr/>
          <p:nvPr/>
        </p:nvSpPr>
        <p:spPr>
          <a:xfrm>
            <a:off x="468360" y="3933720"/>
            <a:ext cx="826092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段：妈妈的话不多，但一字一句浸透着真切的关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7" descr="D:\英才ppt资料\背景\87bf0a6dc8a0ac79e4e438d5a7feb3b2.jpg87bf0a6dc8a0ac79e4e438d5a7feb3b2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76" name="内容占位符 2"/>
          <p:cNvSpPr/>
          <p:nvPr/>
        </p:nvSpPr>
        <p:spPr>
          <a:xfrm>
            <a:off x="468360" y="911160"/>
            <a:ext cx="826092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段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彬彬有礼”写约翰是一位非常有礼貌的孩子。此时他的心里一定开心极了，因为他也可以像其他小朋友一样过生日，他为能请小朋友吃蛋糕而自豪和幸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妈妈对我眨眨眼睛”，描写了妈妈的眼神，好像在对“我”说：“儿子，你放心了吧，约翰的生日过得还可以吧？”真是“此时无声胜有声”啊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7" descr="C:\Users\Administrator\Desktop\PPT\背景\背景 (87).jpg背景 (87)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78" name="内容占位符 2"/>
          <p:cNvSpPr/>
          <p:nvPr/>
        </p:nvSpPr>
        <p:spPr>
          <a:xfrm>
            <a:off x="1835280" y="981000"/>
            <a:ext cx="678456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总结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作者以“我”与约翰交往的过程及“我”的情感变化为线索，依次写了“我”与约翰初次相见、逐渐相知、最后相好的过程。讲述了“我”为“我”的朋友约翰生日无人过问担忧，而“我”的妈妈出乎意料地买来蛋糕为约翰庆祝生日这件事，赞扬了“我”和妈妈真诚地对待朋友、热诚地关爱朋友的品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图片 7" descr="D:\英才ppt资料\背景\背景-互动.jpg背景-互动"/>
          <p:cNvPicPr/>
          <p:nvPr/>
        </p:nvPicPr>
        <p:blipFill>
          <a:blip r:embed="rId1"/>
          <a:stretch/>
        </p:blipFill>
        <p:spPr>
          <a:xfrm>
            <a:off x="0" y="0"/>
            <a:ext cx="9131040" cy="6857640"/>
          </a:xfrm>
          <a:prstGeom prst="rect">
            <a:avLst/>
          </a:prstGeom>
          <a:ln w="0">
            <a:noFill/>
          </a:ln>
        </p:spPr>
      </p:pic>
      <p:sp>
        <p:nvSpPr>
          <p:cNvPr id="180" name="圆角矩形 6"/>
          <p:cNvSpPr/>
          <p:nvPr/>
        </p:nvSpPr>
        <p:spPr>
          <a:xfrm>
            <a:off x="4807080" y="1708200"/>
            <a:ext cx="3671640" cy="4063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有什么感想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5"/>
          <p:cNvSpPr/>
          <p:nvPr/>
        </p:nvSpPr>
        <p:spPr>
          <a:xfrm>
            <a:off x="816120" y="1054080"/>
            <a:ext cx="376200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品读感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赠人玫瑰，手有余香；帮助他人，快乐自己。妈妈的善良、富有同情心，“我”的那颗虽幼稚但充满同情、充满真诚的爱心深深地打动了我们，如果我们都能像文中的妈妈和“我”那样，我们的世界将变得更加温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矩形 4" descr=""/>
          <p:cNvPicPr/>
          <p:nvPr/>
        </p:nvPicPr>
        <p:blipFill>
          <a:blip r:embed="rId2"/>
          <a:stretch/>
        </p:blipFill>
        <p:spPr>
          <a:xfrm>
            <a:off x="5148360" y="981000"/>
            <a:ext cx="2982600" cy="701280"/>
          </a:xfrm>
          <a:prstGeom prst="rect">
            <a:avLst/>
          </a:prstGeom>
          <a:ln w="0">
            <a:noFill/>
          </a:ln>
        </p:spPr>
      </p:pic>
      <p:sp>
        <p:nvSpPr>
          <p:cNvPr id="183" name="直接连接符 25605"/>
          <p:cNvSpPr/>
          <p:nvPr/>
        </p:nvSpPr>
        <p:spPr>
          <a:xfrm>
            <a:off x="5364000" y="2850840"/>
            <a:ext cx="3095640" cy="360"/>
          </a:xfrm>
          <a:prstGeom prst="line">
            <a:avLst/>
          </a:prstGeom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4" name="直接连接符 25606"/>
          <p:cNvSpPr/>
          <p:nvPr/>
        </p:nvSpPr>
        <p:spPr>
          <a:xfrm>
            <a:off x="5419440" y="3265200"/>
            <a:ext cx="3095640" cy="360"/>
          </a:xfrm>
          <a:prstGeom prst="line">
            <a:avLst/>
          </a:prstGeom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5" name="直接连接符 25607"/>
          <p:cNvSpPr/>
          <p:nvPr/>
        </p:nvSpPr>
        <p:spPr>
          <a:xfrm>
            <a:off x="5403600" y="3606480"/>
            <a:ext cx="3095640" cy="1800"/>
          </a:xfrm>
          <a:prstGeom prst="line">
            <a:avLst/>
          </a:prstGeom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6" name="直接连接符 25608"/>
          <p:cNvSpPr/>
          <p:nvPr/>
        </p:nvSpPr>
        <p:spPr>
          <a:xfrm>
            <a:off x="5386320" y="4020840"/>
            <a:ext cx="3095640" cy="1800"/>
          </a:xfrm>
          <a:prstGeom prst="line">
            <a:avLst/>
          </a:prstGeom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7" name="直接连接符 25609"/>
          <p:cNvSpPr/>
          <p:nvPr/>
        </p:nvSpPr>
        <p:spPr>
          <a:xfrm>
            <a:off x="5370480" y="4435200"/>
            <a:ext cx="3095640" cy="360"/>
          </a:xfrm>
          <a:prstGeom prst="line">
            <a:avLst/>
          </a:prstGeom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8" name="直接连接符 25610"/>
          <p:cNvSpPr/>
          <p:nvPr/>
        </p:nvSpPr>
        <p:spPr>
          <a:xfrm>
            <a:off x="5352840" y="4849560"/>
            <a:ext cx="3095640" cy="360"/>
          </a:xfrm>
          <a:prstGeom prst="line">
            <a:avLst/>
          </a:prstGeom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9" name="直接连接符 25611"/>
          <p:cNvSpPr/>
          <p:nvPr/>
        </p:nvSpPr>
        <p:spPr>
          <a:xfrm>
            <a:off x="5408280" y="5263920"/>
            <a:ext cx="3095640" cy="360"/>
          </a:xfrm>
          <a:prstGeom prst="line">
            <a:avLst/>
          </a:prstGeom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p:transition>
    <p:circl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7" descr="D:\英才ppt资料\背景\20120528203903_GKNKS.jpeg20120528203903_GKNKS"/>
          <p:cNvPicPr/>
          <p:nvPr/>
        </p:nvPicPr>
        <p:blipFill>
          <a:blip r:embed="rId1"/>
          <a:stretch/>
        </p:blipFill>
        <p:spPr>
          <a:xfrm>
            <a:off x="20520" y="549360"/>
            <a:ext cx="9105480" cy="5917680"/>
          </a:xfrm>
          <a:prstGeom prst="rect">
            <a:avLst/>
          </a:prstGeom>
          <a:ln w="0">
            <a:noFill/>
          </a:ln>
        </p:spPr>
      </p:pic>
      <p:sp>
        <p:nvSpPr>
          <p:cNvPr id="191" name="圆角矩形 6"/>
          <p:cNvSpPr/>
          <p:nvPr/>
        </p:nvSpPr>
        <p:spPr>
          <a:xfrm>
            <a:off x="539640" y="4005360"/>
            <a:ext cx="8362440" cy="2557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用对比手法写一段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"/>
          <p:cNvSpPr/>
          <p:nvPr/>
        </p:nvSpPr>
        <p:spPr>
          <a:xfrm>
            <a:off x="468360" y="909720"/>
            <a:ext cx="81990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仿写训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注重对比手法的运用。文中很多地方运用了对比的手法，更能突出人物形象。有纵向的对比：“我”对约翰的态度前后鲜明的变化；也有横向的对比：帕米拉太太对约翰的态度与“我们”对约翰的态度形成对比，“我”后来对约翰的态度与同学们对约翰的态度进行对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26628"/>
          <p:cNvSpPr/>
          <p:nvPr/>
        </p:nvSpPr>
        <p:spPr>
          <a:xfrm>
            <a:off x="614160" y="5013000"/>
            <a:ext cx="7270920" cy="360"/>
          </a:xfrm>
          <a:prstGeom prst="line">
            <a:avLst/>
          </a:prstGeom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4" name="直接连接符 26629"/>
          <p:cNvSpPr/>
          <p:nvPr/>
        </p:nvSpPr>
        <p:spPr>
          <a:xfrm>
            <a:off x="596880" y="5499000"/>
            <a:ext cx="7272000" cy="360"/>
          </a:xfrm>
          <a:prstGeom prst="line">
            <a:avLst/>
          </a:prstGeom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p:transition>
    <p:circle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7" descr="D:\英才ppt资料\背景\2012522310518202.jpg2012522310518202"/>
          <p:cNvPicPr/>
          <p:nvPr/>
        </p:nvPicPr>
        <p:blipFill>
          <a:blip r:embed="rId1"/>
          <a:stretch/>
        </p:blipFill>
        <p:spPr>
          <a:xfrm>
            <a:off x="0" y="0"/>
            <a:ext cx="9153000" cy="68576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132000" y="549360"/>
            <a:ext cx="2538000" cy="837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语言积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3"/>
          <p:cNvSpPr/>
          <p:nvPr/>
        </p:nvSpPr>
        <p:spPr>
          <a:xfrm>
            <a:off x="539640" y="1484280"/>
            <a:ext cx="849600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5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关爱心的名言：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爱是理解的别名。——泰戈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生是花，而爱是花蜜。——雨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爱之花开放的地方，生命便能欣欣向荣。——梵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7" descr="D:\英才ppt资料\背景\背景11.jpg背景11"/>
          <p:cNvPicPr/>
          <p:nvPr/>
        </p:nvPicPr>
        <p:blipFill>
          <a:blip r:embed="rId1"/>
          <a:stretch/>
        </p:blipFill>
        <p:spPr>
          <a:xfrm>
            <a:off x="-7920" y="0"/>
            <a:ext cx="9151560" cy="6857640"/>
          </a:xfrm>
          <a:prstGeom prst="rect">
            <a:avLst/>
          </a:prstGeom>
          <a:ln w="0">
            <a:noFill/>
          </a:ln>
        </p:spPr>
      </p:pic>
      <p:sp>
        <p:nvSpPr>
          <p:cNvPr id="199" name="TextBox 3"/>
          <p:cNvSpPr/>
          <p:nvPr/>
        </p:nvSpPr>
        <p:spPr>
          <a:xfrm>
            <a:off x="324000" y="765000"/>
            <a:ext cx="8556120" cy="46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、读拼音，写词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ｃ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ｏ ｘ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ｏ  ｊ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ｎｇ 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ò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ｌ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ｏ ｔ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ｎ  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ī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ǔ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         ）   （        ）    （          ）  （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二、写出下列词语的反义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寒酸—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     )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温柔—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     )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偶尔—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蓬乱—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     )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惊慌—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     )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熟悉—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三、解释句子中蓝色词语的意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人在窃窃私语，嘲笑他的窘迫寒酸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约翰彬彬有礼地请全班同学吃蛋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家都面无表情，他只好一个人尴尬地站在那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826920" y="1773360"/>
            <a:ext cx="114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嘲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4"/>
          <p:cNvSpPr/>
          <p:nvPr/>
        </p:nvSpPr>
        <p:spPr>
          <a:xfrm>
            <a:off x="5580000" y="692280"/>
            <a:ext cx="2982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随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2844720" y="1781280"/>
            <a:ext cx="114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窘迫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5025960" y="1773360"/>
            <a:ext cx="114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聊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6854760" y="1773360"/>
            <a:ext cx="114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欺侮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1547640" y="2708280"/>
            <a:ext cx="114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阔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3851280" y="2708280"/>
            <a:ext cx="114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粗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6154560" y="2708280"/>
            <a:ext cx="114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经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1547640" y="3139920"/>
            <a:ext cx="114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整齐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5148360" y="4221000"/>
            <a:ext cx="3747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私下里小声交谈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6227640" y="5372280"/>
            <a:ext cx="1696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处境困难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好处理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5291280" y="4797360"/>
            <a:ext cx="3541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形容文雅而礼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3851280" y="3139920"/>
            <a:ext cx="114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镇定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154560" y="3139920"/>
            <a:ext cx="114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陌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0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C:\Documents and Settings\Administrator\My Documents\祝你生日快乐\3628846_062601281101_2.jpg3628846_062601281101_2"/>
          <p:cNvPicPr/>
          <p:nvPr/>
        </p:nvPicPr>
        <p:blipFill>
          <a:blip r:embed="rId1"/>
          <a:stretch/>
        </p:blipFill>
        <p:spPr>
          <a:xfrm>
            <a:off x="0" y="471600"/>
            <a:ext cx="9086400" cy="5998680"/>
          </a:xfrm>
          <a:prstGeom prst="rect">
            <a:avLst/>
          </a:prstGeom>
          <a:ln w="0">
            <a:noFill/>
          </a:ln>
        </p:spPr>
      </p:pic>
      <p:pic>
        <p:nvPicPr>
          <p:cNvPr id="215" name="内容占位符 2" descr=""/>
          <p:cNvPicPr/>
          <p:nvPr/>
        </p:nvPicPr>
        <p:blipFill>
          <a:blip r:embed="rId2"/>
          <a:stretch/>
        </p:blipFill>
        <p:spPr>
          <a:xfrm>
            <a:off x="828720" y="981000"/>
            <a:ext cx="4046040" cy="1684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4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4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7" descr="底色.png"/>
          <p:cNvPicPr/>
          <p:nvPr/>
        </p:nvPicPr>
        <p:blipFill>
          <a:blip r:embed="rId1"/>
          <a:stretch/>
        </p:blipFill>
        <p:spPr>
          <a:xfrm>
            <a:off x="0" y="477720"/>
            <a:ext cx="9143640" cy="59767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" descr="C:\Documents and Settings\Administrator\My Documents\祝你生日快乐\11052314403293.jpg11052314403293"/>
          <p:cNvPicPr/>
          <p:nvPr/>
        </p:nvPicPr>
        <p:blipFill>
          <a:blip r:embed="rId2"/>
          <a:stretch/>
        </p:blipFill>
        <p:spPr>
          <a:xfrm>
            <a:off x="38160" y="520560"/>
            <a:ext cx="4709880" cy="588276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" descr="C:\Documents and Settings\Administrator\My Documents\祝你生日快乐\d3dcc731a4c9b32262373499436043de.jpgd3dcc731a4c9b32262373499436043de"/>
          <p:cNvPicPr/>
          <p:nvPr/>
        </p:nvPicPr>
        <p:blipFill>
          <a:blip r:embed="rId3"/>
          <a:stretch/>
        </p:blipFill>
        <p:spPr>
          <a:xfrm>
            <a:off x="4794120" y="531720"/>
            <a:ext cx="4296960" cy="5903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5"/>
          <p:cNvSpPr/>
          <p:nvPr/>
        </p:nvSpPr>
        <p:spPr>
          <a:xfrm>
            <a:off x="318960" y="2608200"/>
            <a:ext cx="734760" cy="2408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moban/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素材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背景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beijing/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表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tubiao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xiazai/  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powerpoint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资料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ziliao/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范文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fanwen/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试卷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shiti/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教案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jiaoan/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论坛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n                  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语文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yuwen/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数学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shuxu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英语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yingyu/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美术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meish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科学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kexue/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物理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wuli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化学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huaxue/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生物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shengw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地理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dili/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历史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lishi/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D:\英才ppt资料\背景\背景57.jpg背景57"/>
          <p:cNvPicPr/>
          <p:nvPr/>
        </p:nvPicPr>
        <p:blipFill>
          <a:blip r:embed="rId1"/>
          <a:stretch/>
        </p:blipFill>
        <p:spPr>
          <a:xfrm>
            <a:off x="-3240" y="0"/>
            <a:ext cx="9151560" cy="685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表格 6146"/>
          <p:cNvGraphicFramePr/>
          <p:nvPr/>
        </p:nvGraphicFramePr>
        <p:xfrm>
          <a:off x="1258920" y="1693800"/>
          <a:ext cx="1225080" cy="1917360"/>
        </p:xfrm>
        <a:graphic>
          <a:graphicData uri="http://schemas.openxmlformats.org/drawingml/2006/table">
            <a:tbl>
              <a:tblPr/>
              <a:tblGrid>
                <a:gridCol w="1225440"/>
              </a:tblGrid>
              <a:tr h="419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Meiryo UI"/>
                          <a:ea typeface="Meiryo UI"/>
                        </a:rPr>
                        <a:t>ｑｉ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Meiryo UI"/>
                          <a:ea typeface="Meiryo UI"/>
                        </a:rPr>
                        <a:t>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2c1db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4e9f1"/>
                    </a:solidFill>
                  </a:tcPr>
                </a:tc>
              </a:tr>
              <a:tr h="37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九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4f8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上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4e9f1"/>
                    </a:solidFill>
                  </a:tcPr>
                </a:tc>
              </a:tr>
              <a:tr h="380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4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" name="表格 6160"/>
          <p:cNvGraphicFramePr/>
          <p:nvPr/>
        </p:nvGraphicFramePr>
        <p:xfrm>
          <a:off x="2698920" y="1844640"/>
          <a:ext cx="4200120" cy="2231640"/>
        </p:xfrm>
        <a:graphic>
          <a:graphicData uri="http://schemas.openxmlformats.org/drawingml/2006/table">
            <a:tbl>
              <a:tblPr/>
              <a:tblGrid>
                <a:gridCol w="738000"/>
                <a:gridCol w="3462120"/>
              </a:tblGrid>
              <a:tr h="873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字义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①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偷偷地；②偷；③〈书〉谦辞，用于称自己的行为，表示私自、私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组词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窃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盗窃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行窃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窃笑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窃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辨字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切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一切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关切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亲切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切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造句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企图盗</a:t>
                      </a: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Calibri"/>
                          <a:ea typeface="宋体"/>
                        </a:rPr>
                        <a:t>窃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展品的罪犯被警察抓住了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表格 6177"/>
          <p:cNvGraphicFramePr/>
          <p:nvPr/>
        </p:nvGraphicFramePr>
        <p:xfrm>
          <a:off x="285840" y="2131920"/>
          <a:ext cx="856800" cy="1082160"/>
        </p:xfrm>
        <a:graphic>
          <a:graphicData uri="http://schemas.openxmlformats.org/drawingml/2006/table">
            <a:tbl>
              <a:tblPr/>
              <a:tblGrid>
                <a:gridCol w="428400"/>
                <a:gridCol w="428400"/>
              </a:tblGrid>
              <a:tr h="541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0000"/>
                      </a:solidFill>
                    </a:lnL>
                    <a:lnR w="12240">
                      <a:solidFill>
                        <a:srgbClr val="c00000"/>
                      </a:solidFill>
                    </a:lnR>
                    <a:lnT w="12240">
                      <a:solidFill>
                        <a:srgbClr val="c00000"/>
                      </a:solidFill>
                    </a:lnT>
                    <a:lnB w="12240">
                      <a:solidFill>
                        <a:srgbClr val="c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0000"/>
                      </a:solidFill>
                    </a:lnL>
                    <a:lnR w="12240">
                      <a:solidFill>
                        <a:srgbClr val="c00000"/>
                      </a:solidFill>
                    </a:lnR>
                    <a:lnT w="12240">
                      <a:solidFill>
                        <a:srgbClr val="c00000"/>
                      </a:solidFill>
                    </a:lnT>
                    <a:lnB w="12240">
                      <a:solidFill>
                        <a:srgbClr val="c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0000"/>
                      </a:solidFill>
                    </a:lnL>
                    <a:lnR w="12240">
                      <a:solidFill>
                        <a:srgbClr val="c00000"/>
                      </a:solidFill>
                    </a:lnR>
                    <a:lnT w="12240">
                      <a:solidFill>
                        <a:srgbClr val="c00000"/>
                      </a:solidFill>
                    </a:lnT>
                    <a:lnB w="12240">
                      <a:solidFill>
                        <a:srgbClr val="c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0000"/>
                      </a:solidFill>
                    </a:lnL>
                    <a:lnR w="12240">
                      <a:solidFill>
                        <a:srgbClr val="c00000"/>
                      </a:solidFill>
                    </a:lnR>
                    <a:lnT w="12240">
                      <a:solidFill>
                        <a:srgbClr val="c00000"/>
                      </a:solidFill>
                    </a:lnT>
                    <a:lnB w="12240">
                      <a:solidFill>
                        <a:srgbClr val="c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0" name="TextBox 14"/>
          <p:cNvSpPr/>
          <p:nvPr/>
        </p:nvSpPr>
        <p:spPr>
          <a:xfrm>
            <a:off x="527040" y="220500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3203640" y="981000"/>
            <a:ext cx="2304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字词整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8244" descr="C:\Documents and Settings\Administrator\My Documents\祝你生日快乐\字\u=329128174,1640305004&amp;fm=21&amp;gp=0.jpgu=329128174,1640305004&amp;fm=21&amp;gp=0"/>
          <p:cNvPicPr/>
          <p:nvPr/>
        </p:nvPicPr>
        <p:blipFill>
          <a:blip r:embed="rId2"/>
          <a:stretch/>
        </p:blipFill>
        <p:spPr>
          <a:xfrm>
            <a:off x="7091280" y="1989000"/>
            <a:ext cx="1688760" cy="123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表格 6196"/>
          <p:cNvGraphicFramePr/>
          <p:nvPr/>
        </p:nvGraphicFramePr>
        <p:xfrm>
          <a:off x="1260360" y="4221000"/>
          <a:ext cx="1225080" cy="1848960"/>
        </p:xfrm>
        <a:graphic>
          <a:graphicData uri="http://schemas.openxmlformats.org/drawingml/2006/table">
            <a:tbl>
              <a:tblPr/>
              <a:tblGrid>
                <a:gridCol w="1225440"/>
              </a:tblGrid>
              <a:tr h="361080">
                <a:tc>
                  <a:txBody>
                    <a:bodyPr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Meiryo UI"/>
                          <a:ea typeface="Meiryo UI"/>
                        </a:rPr>
                        <a:t>ｊｉ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Meiryo UI"/>
                          <a:ea typeface="Meiryo UI"/>
                        </a:rPr>
                        <a:t>ǒ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Meiryo UI"/>
                          <a:ea typeface="Meiryo UI"/>
                        </a:rPr>
                        <a:t>ｎ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Meiryo UI"/>
                          <a:ea typeface="Meiryo UI"/>
                        </a:rPr>
                        <a:t>ɡ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2c1db"/>
                    </a:solidFill>
                  </a:tcPr>
                </a:tc>
              </a:tr>
              <a:tr h="372960">
                <a:tc>
                  <a:txBody>
                    <a:bodyPr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4e9f1"/>
                    </a:solidFill>
                  </a:tcPr>
                </a:tc>
              </a:tr>
              <a:tr h="358560">
                <a:tc>
                  <a:txBody>
                    <a:bodyPr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十二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4f8"/>
                    </a:solidFill>
                  </a:tcPr>
                </a:tc>
              </a:tr>
              <a:tr h="372960">
                <a:tc>
                  <a:txBody>
                    <a:bodyPr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上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4e9f1"/>
                    </a:solidFill>
                  </a:tcPr>
                </a:tc>
              </a:tr>
              <a:tr h="382680">
                <a:tc>
                  <a:txBody>
                    <a:bodyPr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4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" name="表格 6210"/>
          <p:cNvGraphicFramePr/>
          <p:nvPr/>
        </p:nvGraphicFramePr>
        <p:xfrm>
          <a:off x="2700360" y="4365720"/>
          <a:ext cx="4200120" cy="1761840"/>
        </p:xfrm>
        <a:graphic>
          <a:graphicData uri="http://schemas.openxmlformats.org/drawingml/2006/table">
            <a:tbl>
              <a:tblPr/>
              <a:tblGrid>
                <a:gridCol w="738000"/>
                <a:gridCol w="3462120"/>
              </a:tblGrid>
              <a:tr h="40320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字义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①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为难；②使为难；③穷困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56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组词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窘境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窘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窘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窘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56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辨字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君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君子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君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君权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君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造句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我事前没做准备，所以现在处境很</a:t>
                      </a: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Calibri"/>
                          <a:ea typeface="宋体"/>
                        </a:rPr>
                        <a:t>窘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迫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表格 6227"/>
          <p:cNvGraphicFramePr/>
          <p:nvPr/>
        </p:nvGraphicFramePr>
        <p:xfrm>
          <a:off x="270000" y="4483080"/>
          <a:ext cx="856800" cy="1082160"/>
        </p:xfrm>
        <a:graphic>
          <a:graphicData uri="http://schemas.openxmlformats.org/drawingml/2006/table">
            <a:tbl>
              <a:tblPr/>
              <a:tblGrid>
                <a:gridCol w="428400"/>
                <a:gridCol w="428400"/>
              </a:tblGrid>
              <a:tr h="541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0000"/>
                      </a:solidFill>
                    </a:lnL>
                    <a:lnR w="12240">
                      <a:solidFill>
                        <a:srgbClr val="c00000"/>
                      </a:solidFill>
                    </a:lnR>
                    <a:lnT w="12240">
                      <a:solidFill>
                        <a:srgbClr val="c00000"/>
                      </a:solidFill>
                    </a:lnT>
                    <a:lnB w="12240">
                      <a:solidFill>
                        <a:srgbClr val="c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0000"/>
                      </a:solidFill>
                    </a:lnL>
                    <a:lnR w="12240">
                      <a:solidFill>
                        <a:srgbClr val="c00000"/>
                      </a:solidFill>
                    </a:lnR>
                    <a:lnT w="12240">
                      <a:solidFill>
                        <a:srgbClr val="c00000"/>
                      </a:solidFill>
                    </a:lnT>
                    <a:lnB w="12240">
                      <a:solidFill>
                        <a:srgbClr val="c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0000"/>
                      </a:solidFill>
                    </a:lnL>
                    <a:lnR w="12240">
                      <a:solidFill>
                        <a:srgbClr val="c00000"/>
                      </a:solidFill>
                    </a:lnR>
                    <a:lnT w="12240">
                      <a:solidFill>
                        <a:srgbClr val="c00000"/>
                      </a:solidFill>
                    </a:lnT>
                    <a:lnB w="12240">
                      <a:solidFill>
                        <a:srgbClr val="c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0000"/>
                      </a:solidFill>
                    </a:lnL>
                    <a:lnR w="12240">
                      <a:solidFill>
                        <a:srgbClr val="c00000"/>
                      </a:solidFill>
                    </a:lnR>
                    <a:lnT w="12240">
                      <a:solidFill>
                        <a:srgbClr val="c00000"/>
                      </a:solidFill>
                    </a:lnT>
                    <a:lnB w="12240">
                      <a:solidFill>
                        <a:srgbClr val="c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6" name="图片 4" descr="C:\Documents and Settings\Administrator\My Documents\祝你生日快乐\字\u=3623080085,2609271683&amp;fm=21&amp;gp=0.jpgu=3623080085,2609271683&amp;fm=21&amp;gp=0"/>
          <p:cNvPicPr/>
          <p:nvPr/>
        </p:nvPicPr>
        <p:blipFill>
          <a:blip r:embed="rId3"/>
          <a:stretch/>
        </p:blipFill>
        <p:spPr>
          <a:xfrm>
            <a:off x="6875640" y="4437000"/>
            <a:ext cx="1858680" cy="1328400"/>
          </a:xfrm>
          <a:prstGeom prst="rect">
            <a:avLst/>
          </a:prstGeom>
          <a:ln w="0">
            <a:noFill/>
          </a:ln>
        </p:spPr>
      </p:pic>
      <p:sp>
        <p:nvSpPr>
          <p:cNvPr id="67" name="TextBox 14"/>
          <p:cNvSpPr/>
          <p:nvPr/>
        </p:nvSpPr>
        <p:spPr>
          <a:xfrm>
            <a:off x="527040" y="458136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4"/>
          <p:cNvSpPr/>
          <p:nvPr/>
        </p:nvSpPr>
        <p:spPr>
          <a:xfrm>
            <a:off x="252360" y="692280"/>
            <a:ext cx="2982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初读感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F:\PPT 背景图片\2010041015220545.jpg2010041015220545"/>
          <p:cNvPicPr/>
          <p:nvPr/>
        </p:nvPicPr>
        <p:blipFill>
          <a:blip r:embed="rId1"/>
          <a:stretch/>
        </p:blipFill>
        <p:spPr>
          <a:xfrm>
            <a:off x="-6480" y="512640"/>
            <a:ext cx="9146880" cy="591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表格 7170"/>
          <p:cNvGraphicFramePr/>
          <p:nvPr/>
        </p:nvGraphicFramePr>
        <p:xfrm>
          <a:off x="1116000" y="1335240"/>
          <a:ext cx="1223640" cy="1917360"/>
        </p:xfrm>
        <a:graphic>
          <a:graphicData uri="http://schemas.openxmlformats.org/drawingml/2006/table">
            <a:tbl>
              <a:tblPr/>
              <a:tblGrid>
                <a:gridCol w="1223640"/>
              </a:tblGrid>
              <a:tr h="419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Meiryo UI"/>
                          <a:ea typeface="Meiryo UI"/>
                        </a:rPr>
                        <a:t>ｍｉ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Meiryo UI"/>
                          <a:ea typeface="Meiryo UI"/>
                        </a:rPr>
                        <a:t>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2c1db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4e9f1"/>
                    </a:solidFill>
                  </a:tcPr>
                </a:tc>
              </a:tr>
              <a:tr h="37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十四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4f8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上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4e9f1"/>
                    </a:solidFill>
                  </a:tcPr>
                </a:tc>
              </a:tr>
              <a:tr h="380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4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" name="表格 7184"/>
          <p:cNvGraphicFramePr/>
          <p:nvPr/>
        </p:nvGraphicFramePr>
        <p:xfrm>
          <a:off x="2556000" y="1555920"/>
          <a:ext cx="4200120" cy="1521720"/>
        </p:xfrm>
        <a:graphic>
          <a:graphicData uri="http://schemas.openxmlformats.org/drawingml/2006/table">
            <a:tbl>
              <a:tblPr/>
              <a:tblGrid>
                <a:gridCol w="738000"/>
                <a:gridCol w="3462120"/>
              </a:tblGrid>
              <a:tr h="37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字义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〈书〉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①小，轻；②无，没有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组词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蔑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轻蔑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蔑视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诬蔑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污蔑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辨字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篾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竹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篾片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篾条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造句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他被这种轻</a:t>
                      </a: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Calibri"/>
                          <a:ea typeface="宋体"/>
                        </a:rPr>
                        <a:t>蔑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的神情激怒了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表格 7201"/>
          <p:cNvGraphicFramePr/>
          <p:nvPr/>
        </p:nvGraphicFramePr>
        <p:xfrm>
          <a:off x="142920" y="1773360"/>
          <a:ext cx="856800" cy="1082160"/>
        </p:xfrm>
        <a:graphic>
          <a:graphicData uri="http://schemas.openxmlformats.org/drawingml/2006/table">
            <a:tbl>
              <a:tblPr/>
              <a:tblGrid>
                <a:gridCol w="428400"/>
                <a:gridCol w="428400"/>
              </a:tblGrid>
              <a:tr h="541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0000"/>
                      </a:solidFill>
                    </a:lnL>
                    <a:lnR w="12240">
                      <a:solidFill>
                        <a:srgbClr val="c00000"/>
                      </a:solidFill>
                    </a:lnR>
                    <a:lnT w="12240">
                      <a:solidFill>
                        <a:srgbClr val="c00000"/>
                      </a:solidFill>
                    </a:lnT>
                    <a:lnB w="12240">
                      <a:solidFill>
                        <a:srgbClr val="c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0000"/>
                      </a:solidFill>
                    </a:lnL>
                    <a:lnR w="12240">
                      <a:solidFill>
                        <a:srgbClr val="c00000"/>
                      </a:solidFill>
                    </a:lnR>
                    <a:lnT w="12240">
                      <a:solidFill>
                        <a:srgbClr val="c00000"/>
                      </a:solidFill>
                    </a:lnT>
                    <a:lnB w="12240">
                      <a:solidFill>
                        <a:srgbClr val="c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0000"/>
                      </a:solidFill>
                    </a:lnL>
                    <a:lnR w="12240">
                      <a:solidFill>
                        <a:srgbClr val="c00000"/>
                      </a:solidFill>
                    </a:lnR>
                    <a:lnT w="12240">
                      <a:solidFill>
                        <a:srgbClr val="c00000"/>
                      </a:solidFill>
                    </a:lnT>
                    <a:lnB w="12240">
                      <a:solidFill>
                        <a:srgbClr val="c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0000"/>
                      </a:solidFill>
                    </a:lnL>
                    <a:lnR w="12240">
                      <a:solidFill>
                        <a:srgbClr val="c00000"/>
                      </a:solidFill>
                    </a:lnR>
                    <a:lnT w="12240">
                      <a:solidFill>
                        <a:srgbClr val="c00000"/>
                      </a:solidFill>
                    </a:lnT>
                    <a:lnB w="12240">
                      <a:solidFill>
                        <a:srgbClr val="c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3" name="TextBox 14"/>
          <p:cNvSpPr/>
          <p:nvPr/>
        </p:nvSpPr>
        <p:spPr>
          <a:xfrm>
            <a:off x="412920" y="191628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8244" descr="C:\Documents and Settings\Administrator\My Documents\祝你生日快乐\字\u=1671560438,1964449254&amp;fm=21&amp;gp=0.jpgu=1671560438,1964449254&amp;fm=21&amp;gp=0"/>
          <p:cNvPicPr/>
          <p:nvPr/>
        </p:nvPicPr>
        <p:blipFill>
          <a:blip r:embed="rId2"/>
          <a:stretch/>
        </p:blipFill>
        <p:spPr>
          <a:xfrm>
            <a:off x="6732720" y="1292400"/>
            <a:ext cx="2201400" cy="176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表格 7219"/>
          <p:cNvGraphicFramePr/>
          <p:nvPr/>
        </p:nvGraphicFramePr>
        <p:xfrm>
          <a:off x="1100160" y="3686040"/>
          <a:ext cx="1223640" cy="1915920"/>
        </p:xfrm>
        <a:graphic>
          <a:graphicData uri="http://schemas.openxmlformats.org/drawingml/2006/table">
            <a:tbl>
              <a:tblPr/>
              <a:tblGrid>
                <a:gridCol w="1223640"/>
              </a:tblGrid>
              <a:tr h="425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Meiryo UI"/>
                          <a:ea typeface="Meiryo UI"/>
                        </a:rPr>
                        <a:t>ｌｉ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Meiryo UI"/>
                          <a:ea typeface="Meiryo UI"/>
                        </a:rPr>
                        <a:t>á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Meiryo UI"/>
                          <a:ea typeface="Meiryo UI"/>
                        </a:rPr>
                        <a:t>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2c1db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4e9f1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十一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4f8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左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4e9f1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4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" name="表格 7233"/>
          <p:cNvGraphicFramePr/>
          <p:nvPr/>
        </p:nvGraphicFramePr>
        <p:xfrm>
          <a:off x="2516040" y="3686040"/>
          <a:ext cx="4200120" cy="2015640"/>
        </p:xfrm>
        <a:graphic>
          <a:graphicData uri="http://schemas.openxmlformats.org/drawingml/2006/table">
            <a:tbl>
              <a:tblPr/>
              <a:tblGrid>
                <a:gridCol w="738000"/>
                <a:gridCol w="3462120"/>
              </a:tblGrid>
              <a:tr h="873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字义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①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〈口〉闲谈；②〈书〉依赖，凭借；③〈书〉姑且；④〈书〉略微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组词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聊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聊天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无聊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聊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聊胜于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辨字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柳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柳树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柳条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柳枝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杨柳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造句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他一边喝茶，一边和战士们</a:t>
                      </a: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Calibri"/>
                          <a:ea typeface="宋体"/>
                        </a:rPr>
                        <a:t>聊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天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表格 7250"/>
          <p:cNvGraphicFramePr/>
          <p:nvPr/>
        </p:nvGraphicFramePr>
        <p:xfrm>
          <a:off x="127080" y="4124160"/>
          <a:ext cx="856800" cy="1082160"/>
        </p:xfrm>
        <a:graphic>
          <a:graphicData uri="http://schemas.openxmlformats.org/drawingml/2006/table">
            <a:tbl>
              <a:tblPr/>
              <a:tblGrid>
                <a:gridCol w="428400"/>
                <a:gridCol w="428400"/>
              </a:tblGrid>
              <a:tr h="541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0000"/>
                      </a:solidFill>
                    </a:lnL>
                    <a:lnR w="12240">
                      <a:solidFill>
                        <a:srgbClr val="c00000"/>
                      </a:solidFill>
                    </a:lnR>
                    <a:lnT w="12240">
                      <a:solidFill>
                        <a:srgbClr val="c00000"/>
                      </a:solidFill>
                    </a:lnT>
                    <a:lnB w="12240">
                      <a:solidFill>
                        <a:srgbClr val="c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0000"/>
                      </a:solidFill>
                    </a:lnL>
                    <a:lnR w="12240">
                      <a:solidFill>
                        <a:srgbClr val="c00000"/>
                      </a:solidFill>
                    </a:lnR>
                    <a:lnT w="12240">
                      <a:solidFill>
                        <a:srgbClr val="c00000"/>
                      </a:solidFill>
                    </a:lnT>
                    <a:lnB w="12240">
                      <a:solidFill>
                        <a:srgbClr val="c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0000"/>
                      </a:solidFill>
                    </a:lnL>
                    <a:lnR w="12240">
                      <a:solidFill>
                        <a:srgbClr val="c00000"/>
                      </a:solidFill>
                    </a:lnR>
                    <a:lnT w="12240">
                      <a:solidFill>
                        <a:srgbClr val="c00000"/>
                      </a:solidFill>
                    </a:lnT>
                    <a:lnB w="12240">
                      <a:solidFill>
                        <a:srgbClr val="c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0000"/>
                      </a:solidFill>
                    </a:lnL>
                    <a:lnR w="12240">
                      <a:solidFill>
                        <a:srgbClr val="c00000"/>
                      </a:solidFill>
                    </a:lnR>
                    <a:lnT w="12240">
                      <a:solidFill>
                        <a:srgbClr val="c00000"/>
                      </a:solidFill>
                    </a:lnT>
                    <a:lnB w="12240">
                      <a:solidFill>
                        <a:srgbClr val="c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78" name="图片 4" descr="C:\Documents and Settings\Administrator\My Documents\祝你生日快乐\字\u=2406028186,3212179793&amp;fm=21&amp;gp=0.jpgu=2406028186,3212179793&amp;fm=21&amp;gp=0"/>
          <p:cNvPicPr/>
          <p:nvPr/>
        </p:nvPicPr>
        <p:blipFill>
          <a:blip r:embed="rId3"/>
          <a:stretch/>
        </p:blipFill>
        <p:spPr>
          <a:xfrm>
            <a:off x="6721560" y="3649680"/>
            <a:ext cx="2239560" cy="1912680"/>
          </a:xfrm>
          <a:prstGeom prst="rect">
            <a:avLst/>
          </a:prstGeom>
          <a:ln w="0">
            <a:noFill/>
          </a:ln>
        </p:spPr>
      </p:pic>
      <p:sp>
        <p:nvSpPr>
          <p:cNvPr id="79" name="TextBox 14"/>
          <p:cNvSpPr/>
          <p:nvPr/>
        </p:nvSpPr>
        <p:spPr>
          <a:xfrm>
            <a:off x="382680" y="422100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F:\PPT 背景图片\1-1404131S255239.jpg1-1404131S255239"/>
          <p:cNvPicPr/>
          <p:nvPr/>
        </p:nvPicPr>
        <p:blipFill>
          <a:blip r:embed="rId1"/>
          <a:stretch/>
        </p:blipFill>
        <p:spPr>
          <a:xfrm>
            <a:off x="-4680" y="498600"/>
            <a:ext cx="9116640" cy="594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表格 8194"/>
          <p:cNvGraphicFramePr/>
          <p:nvPr/>
        </p:nvGraphicFramePr>
        <p:xfrm>
          <a:off x="1116000" y="1335240"/>
          <a:ext cx="1223640" cy="1917360"/>
        </p:xfrm>
        <a:graphic>
          <a:graphicData uri="http://schemas.openxmlformats.org/drawingml/2006/table">
            <a:tbl>
              <a:tblPr/>
              <a:tblGrid>
                <a:gridCol w="1223640"/>
              </a:tblGrid>
              <a:tr h="419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Meiryo UI"/>
                          <a:ea typeface="Meiryo UI"/>
                        </a:rPr>
                        <a:t>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2c1db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4e9f1"/>
                    </a:solidFill>
                  </a:tcPr>
                </a:tc>
              </a:tr>
              <a:tr h="37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十五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4f8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左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4e9f1"/>
                    </a:solidFill>
                  </a:tcPr>
                </a:tc>
              </a:tr>
              <a:tr h="380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名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4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2" name="表格 8208"/>
          <p:cNvGraphicFramePr/>
          <p:nvPr/>
        </p:nvGraphicFramePr>
        <p:xfrm>
          <a:off x="2556000" y="1197000"/>
          <a:ext cx="4200120" cy="2231640"/>
        </p:xfrm>
        <a:graphic>
          <a:graphicData uri="http://schemas.openxmlformats.org/drawingml/2006/table">
            <a:tbl>
              <a:tblPr/>
              <a:tblGrid>
                <a:gridCol w="738000"/>
                <a:gridCol w="3462120"/>
              </a:tblGrid>
              <a:tr h="873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字义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①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人的眉毛以上头发以下的部分，也指某些动物头部大致与此相当的部位；②规定的数目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组词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额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额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额外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名额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定额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辨字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客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客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宾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客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造句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这位老人的颧骨很高，</a:t>
                      </a: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Calibri"/>
                          <a:ea typeface="宋体"/>
                        </a:rPr>
                        <a:t>额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上的皱纹很深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表格 8225"/>
          <p:cNvGraphicFramePr/>
          <p:nvPr/>
        </p:nvGraphicFramePr>
        <p:xfrm>
          <a:off x="142920" y="1773360"/>
          <a:ext cx="856800" cy="1082160"/>
        </p:xfrm>
        <a:graphic>
          <a:graphicData uri="http://schemas.openxmlformats.org/drawingml/2006/table">
            <a:tbl>
              <a:tblPr/>
              <a:tblGrid>
                <a:gridCol w="428400"/>
                <a:gridCol w="428400"/>
              </a:tblGrid>
              <a:tr h="541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0000"/>
                      </a:solidFill>
                    </a:lnL>
                    <a:lnR w="12240">
                      <a:solidFill>
                        <a:srgbClr val="c00000"/>
                      </a:solidFill>
                    </a:lnR>
                    <a:lnT w="12240">
                      <a:solidFill>
                        <a:srgbClr val="c00000"/>
                      </a:solidFill>
                    </a:lnT>
                    <a:lnB w="12240">
                      <a:solidFill>
                        <a:srgbClr val="c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0000"/>
                      </a:solidFill>
                    </a:lnL>
                    <a:lnR w="12240">
                      <a:solidFill>
                        <a:srgbClr val="c00000"/>
                      </a:solidFill>
                    </a:lnR>
                    <a:lnT w="12240">
                      <a:solidFill>
                        <a:srgbClr val="c00000"/>
                      </a:solidFill>
                    </a:lnT>
                    <a:lnB w="12240">
                      <a:solidFill>
                        <a:srgbClr val="c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0000"/>
                      </a:solidFill>
                    </a:lnL>
                    <a:lnR w="12240">
                      <a:solidFill>
                        <a:srgbClr val="c00000"/>
                      </a:solidFill>
                    </a:lnR>
                    <a:lnT w="12240">
                      <a:solidFill>
                        <a:srgbClr val="c00000"/>
                      </a:solidFill>
                    </a:lnT>
                    <a:lnB w="12240">
                      <a:solidFill>
                        <a:srgbClr val="c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0000"/>
                      </a:solidFill>
                    </a:lnL>
                    <a:lnR w="12240">
                      <a:solidFill>
                        <a:srgbClr val="c00000"/>
                      </a:solidFill>
                    </a:lnR>
                    <a:lnT w="12240">
                      <a:solidFill>
                        <a:srgbClr val="c00000"/>
                      </a:solidFill>
                    </a:lnT>
                    <a:lnB w="12240">
                      <a:solidFill>
                        <a:srgbClr val="c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4" name="TextBox 14"/>
          <p:cNvSpPr/>
          <p:nvPr/>
        </p:nvSpPr>
        <p:spPr>
          <a:xfrm>
            <a:off x="382680" y="191628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8244" descr="C:\Documents and Settings\Administrator\My Documents\祝你生日快乐\字\u=383332815,3108294019&amp;fm=21&amp;gp=0.jpgu=383332815,3108294019&amp;fm=21&amp;gp=0"/>
          <p:cNvPicPr/>
          <p:nvPr/>
        </p:nvPicPr>
        <p:blipFill>
          <a:blip r:embed="rId2"/>
          <a:stretch/>
        </p:blipFill>
        <p:spPr>
          <a:xfrm>
            <a:off x="6948360" y="1268280"/>
            <a:ext cx="1906200" cy="209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表格 8243"/>
          <p:cNvGraphicFramePr/>
          <p:nvPr/>
        </p:nvGraphicFramePr>
        <p:xfrm>
          <a:off x="1100160" y="3686040"/>
          <a:ext cx="1223640" cy="1915920"/>
        </p:xfrm>
        <a:graphic>
          <a:graphicData uri="http://schemas.openxmlformats.org/drawingml/2006/table">
            <a:tbl>
              <a:tblPr/>
              <a:tblGrid>
                <a:gridCol w="1223640"/>
              </a:tblGrid>
              <a:tr h="425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Meiryo UI"/>
                          <a:ea typeface="Meiryo UI"/>
                        </a:rPr>
                        <a:t>ｌ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Meiryo UI"/>
                          <a:ea typeface="Meiryo UI"/>
                        </a:rPr>
                        <a:t>á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Meiryo UI"/>
                          <a:ea typeface="Meiryo UI"/>
                        </a:rPr>
                        <a:t>ｎ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Meiryo UI"/>
                          <a:ea typeface="Meiryo UI"/>
                        </a:rPr>
                        <a:t>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2c1db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4e9f1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十一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4f8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半包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4e9f1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名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4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7" name="表格 8257"/>
          <p:cNvGraphicFramePr/>
          <p:nvPr/>
        </p:nvGraphicFramePr>
        <p:xfrm>
          <a:off x="2627280" y="3789360"/>
          <a:ext cx="4200120" cy="1800000"/>
        </p:xfrm>
        <a:graphic>
          <a:graphicData uri="http://schemas.openxmlformats.org/drawingml/2006/table">
            <a:tbl>
              <a:tblPr/>
              <a:tblGrid>
                <a:gridCol w="738000"/>
                <a:gridCol w="3462120"/>
              </a:tblGrid>
              <a:tr h="388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字义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廊子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组词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廊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走廊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长廊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廊子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回廊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辨字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新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郎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侍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郎当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造句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颐和园的长</a:t>
                      </a: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Calibri"/>
                          <a:ea typeface="宋体"/>
                        </a:rPr>
                        <a:t>廊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有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多米长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" name="表格 8274"/>
          <p:cNvGraphicFramePr/>
          <p:nvPr/>
        </p:nvGraphicFramePr>
        <p:xfrm>
          <a:off x="127080" y="4124160"/>
          <a:ext cx="856800" cy="1082160"/>
        </p:xfrm>
        <a:graphic>
          <a:graphicData uri="http://schemas.openxmlformats.org/drawingml/2006/table">
            <a:tbl>
              <a:tblPr/>
              <a:tblGrid>
                <a:gridCol w="428400"/>
                <a:gridCol w="428400"/>
              </a:tblGrid>
              <a:tr h="541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0000"/>
                      </a:solidFill>
                    </a:lnL>
                    <a:lnR w="12240">
                      <a:solidFill>
                        <a:srgbClr val="c00000"/>
                      </a:solidFill>
                    </a:lnR>
                    <a:lnT w="12240">
                      <a:solidFill>
                        <a:srgbClr val="c00000"/>
                      </a:solidFill>
                    </a:lnT>
                    <a:lnB w="12240">
                      <a:solidFill>
                        <a:srgbClr val="c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0000"/>
                      </a:solidFill>
                    </a:lnL>
                    <a:lnR w="12240">
                      <a:solidFill>
                        <a:srgbClr val="c00000"/>
                      </a:solidFill>
                    </a:lnR>
                    <a:lnT w="12240">
                      <a:solidFill>
                        <a:srgbClr val="c00000"/>
                      </a:solidFill>
                    </a:lnT>
                    <a:lnB w="12240">
                      <a:solidFill>
                        <a:srgbClr val="c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0000"/>
                      </a:solidFill>
                    </a:lnL>
                    <a:lnR w="12240">
                      <a:solidFill>
                        <a:srgbClr val="c00000"/>
                      </a:solidFill>
                    </a:lnR>
                    <a:lnT w="12240">
                      <a:solidFill>
                        <a:srgbClr val="c00000"/>
                      </a:solidFill>
                    </a:lnT>
                    <a:lnB w="12240">
                      <a:solidFill>
                        <a:srgbClr val="c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0000"/>
                      </a:solidFill>
                    </a:lnL>
                    <a:lnR w="12240">
                      <a:solidFill>
                        <a:srgbClr val="c00000"/>
                      </a:solidFill>
                    </a:lnR>
                    <a:lnT w="12240">
                      <a:solidFill>
                        <a:srgbClr val="c00000"/>
                      </a:solidFill>
                    </a:lnT>
                    <a:lnB w="12240">
                      <a:solidFill>
                        <a:srgbClr val="c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89" name="图片 4" descr="C:\Documents and Settings\Administrator\My Documents\祝你生日快乐\字\u=2865744051,1354569736&amp;fm=21&amp;gp=0.jpgu=2865744051,1354569736&amp;fm=21&amp;gp=0"/>
          <p:cNvPicPr/>
          <p:nvPr/>
        </p:nvPicPr>
        <p:blipFill>
          <a:blip r:embed="rId3"/>
          <a:stretch/>
        </p:blipFill>
        <p:spPr>
          <a:xfrm>
            <a:off x="6521400" y="3790800"/>
            <a:ext cx="2080800" cy="2088720"/>
          </a:xfrm>
          <a:prstGeom prst="rect">
            <a:avLst/>
          </a:prstGeom>
          <a:ln w="0">
            <a:noFill/>
          </a:ln>
        </p:spPr>
      </p:pic>
      <p:sp>
        <p:nvSpPr>
          <p:cNvPr id="90" name="TextBox 14"/>
          <p:cNvSpPr/>
          <p:nvPr/>
        </p:nvSpPr>
        <p:spPr>
          <a:xfrm>
            <a:off x="382680" y="422100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D:\英才ppt资料\背景\2012614229317912.jpg2012614229317912"/>
          <p:cNvPicPr/>
          <p:nvPr/>
        </p:nvPicPr>
        <p:blipFill>
          <a:blip r:embed="rId1"/>
          <a:stretch/>
        </p:blipFill>
        <p:spPr>
          <a:xfrm>
            <a:off x="-19080" y="0"/>
            <a:ext cx="9169200" cy="6857640"/>
          </a:xfrm>
          <a:prstGeom prst="rect">
            <a:avLst/>
          </a:prstGeom>
          <a:ln w="0">
            <a:noFill/>
          </a:ln>
        </p:spPr>
      </p:pic>
      <p:sp>
        <p:nvSpPr>
          <p:cNvPr id="92" name="TextBox 9"/>
          <p:cNvSpPr/>
          <p:nvPr/>
        </p:nvSpPr>
        <p:spPr>
          <a:xfrm>
            <a:off x="139680" y="930240"/>
            <a:ext cx="3300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读写易错提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"/>
          <p:cNvSpPr/>
          <p:nvPr/>
        </p:nvSpPr>
        <p:spPr>
          <a:xfrm>
            <a:off x="684360" y="1555920"/>
            <a:ext cx="8337240" cy="21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正音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窃窃私语（ｑ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è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ì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嘲笑（ｃ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ｏ√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ｏ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辨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蔑”字下边是“戍”，不要写成“戊”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聊”字右边是“卯”，不要写成“卬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C:\Users\Administrator\Desktop\PPT\ppt背景\背景1 (16).jpeg背景1 (16)"/>
          <p:cNvPicPr/>
          <p:nvPr/>
        </p:nvPicPr>
        <p:blipFill>
          <a:blip r:embed="rId1"/>
          <a:stretch/>
        </p:blipFill>
        <p:spPr>
          <a:xfrm>
            <a:off x="3240" y="534960"/>
            <a:ext cx="9140400" cy="59446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6"/>
          <p:cNvSpPr/>
          <p:nvPr/>
        </p:nvSpPr>
        <p:spPr>
          <a:xfrm>
            <a:off x="755640" y="3782880"/>
            <a:ext cx="807372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［屏］辨读：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屏息）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í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屏幕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运用：屏（            ）幕上精彩的内容使我屏（          ）住了呼吸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8"/>
          <p:cNvSpPr/>
          <p:nvPr/>
        </p:nvSpPr>
        <p:spPr>
          <a:xfrm>
            <a:off x="6908760" y="5005440"/>
            <a:ext cx="1171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539640" y="2846520"/>
            <a:ext cx="2418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音字辨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7"/>
          <p:cNvSpPr/>
          <p:nvPr/>
        </p:nvSpPr>
        <p:spPr>
          <a:xfrm>
            <a:off x="2268360" y="5005440"/>
            <a:ext cx="120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í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0" descr="D:\英才ppt资料\背景\2014060313094119.jpg2014060313094119"/>
          <p:cNvPicPr/>
          <p:nvPr/>
        </p:nvPicPr>
        <p:blipFill>
          <a:blip r:embed="rId1"/>
          <a:stretch/>
        </p:blipFill>
        <p:spPr>
          <a:xfrm>
            <a:off x="-648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6"/>
          <p:cNvSpPr/>
          <p:nvPr/>
        </p:nvSpPr>
        <p:spPr>
          <a:xfrm>
            <a:off x="828720" y="3854520"/>
            <a:ext cx="80751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寒酸：形容简陋或过于俭朴而显得不体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轻蔑：轻视，不放在眼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尴尬：处境困难，不好处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知所措：不知道怎么办才好，形容受窘或发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9"/>
          <p:cNvSpPr/>
          <p:nvPr/>
        </p:nvSpPr>
        <p:spPr>
          <a:xfrm>
            <a:off x="2700360" y="3068640"/>
            <a:ext cx="3808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词语释义——学一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ffffff"/>
      </a:accent3>
      <a:accent4>
        <a:srgbClr val="000000"/>
      </a:accent4>
      <a:accent5>
        <a:srgbClr val="b6cbe6"/>
      </a:accent5>
      <a:accent6>
        <a:srgbClr val="d4702b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ffffff"/>
      </a:accent3>
      <a:accent4>
        <a:srgbClr val="000000"/>
      </a:accent4>
      <a:accent5>
        <a:srgbClr val="b6cbe6"/>
      </a:accent5>
      <a:accent6>
        <a:srgbClr val="d4702b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  <Pages>0</Pages>
  <Words>3984</Words>
  <Characters>0</Characters>
  <CharactersWithSpaces>0</CharactersWithSpaces>
  <Paragraphs>24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5T00:28:00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9-01-14T05:34:13Z</dcterms:modified>
  <cp:revision>2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  <property fmtid="{D5CDD505-2E9C-101B-9397-08002B2CF9AE}" pid="3" name="Notes">
    <vt:r8>2</vt:r8>
  </property>
  <property fmtid="{D5CDD505-2E9C-101B-9397-08002B2CF9AE}" pid="4" name="PresentationFormat">
    <vt:lpwstr>全屏显示(4:3)</vt:lpwstr>
  </property>
  <property fmtid="{D5CDD505-2E9C-101B-9397-08002B2CF9AE}" pid="5" name="Slides">
    <vt:r8>30</vt:r8>
  </property>
</Properties>
</file>