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057D78-38F1-40C5-AA27-B3FD413D5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A9FB60-0AE1-40B2-AF6B-36BF0102C8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7D3-9E97-45EC-91C6-E34FF935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4CC-D540-44E9-96D1-999F6341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BE2-E4FD-45EC-B33A-9887AF65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30F-4E91-4618-8C13-2304D412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7EB-0C29-4BE9-89CC-6C25C650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CB5-80D0-4F73-8627-C3B9FE81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05F-4498-432D-96D2-036B55E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6BA-9761-4B55-B8FD-06E0C148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C91-25D4-4AD9-AF8C-889C1390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11A-116E-46C9-B321-F973367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5B9-8FA2-4E58-B92C-45F5B454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63E-F04E-4199-9610-9A83E90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916647-5D24-4FC6-8027-1A702D09D8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祝你生日快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447640" y="479700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5"/>
          <p:cNvSpPr/>
          <p:nvPr/>
        </p:nvSpPr>
        <p:spPr>
          <a:xfrm>
            <a:off x="928800" y="2786040"/>
            <a:ext cx="767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理清文章脉络，分段，概括段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5"/>
          <p:cNvSpPr/>
          <p:nvPr/>
        </p:nvSpPr>
        <p:spPr>
          <a:xfrm>
            <a:off x="428760" y="1714680"/>
            <a:ext cx="8429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一部分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-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：讲“我”和约翰第一次见面的情景。（相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二部分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7-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：讲“我”在与约翰的交往中慢慢了解了他，决定做他的朋友。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相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5"/>
          <p:cNvSpPr/>
          <p:nvPr/>
        </p:nvSpPr>
        <p:spPr>
          <a:xfrm>
            <a:off x="428760" y="1714680"/>
            <a:ext cx="8429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三部分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1-2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：讲“我”为约翰的生日会无人祝福而担忧，但出乎意料的是妈妈为约翰买了可口的蛋糕，使约翰过了一个难忘的生日。（相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四部分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：讲每当“我”听到《祝你生日快乐》这首歌时，就会想起妈妈为约翰庆祝生日的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5"/>
          <p:cNvSpPr/>
          <p:nvPr/>
        </p:nvSpPr>
        <p:spPr>
          <a:xfrm>
            <a:off x="416160" y="909000"/>
            <a:ext cx="8331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头发蓬乱，身上穿着不知从哪儿捡来的衣服，脚上的鞋子破旧不堪，已经张开了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们很穷，在穷人中也是最穷的，微薄的收入几乎不够维持全家人的生活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5"/>
          <p:cNvSpPr/>
          <p:nvPr/>
        </p:nvSpPr>
        <p:spPr>
          <a:xfrm>
            <a:off x="451080" y="4016880"/>
            <a:ext cx="844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指导：抓住重点的词，通过“读—品—读”体会约翰的“窘迫”与“寒酸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5"/>
          <p:cNvSpPr/>
          <p:nvPr/>
        </p:nvSpPr>
        <p:spPr>
          <a:xfrm>
            <a:off x="523800" y="1341360"/>
            <a:ext cx="844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家虽然还不太确定……有人窃窃私语，嘲笑他的窘迫寒酸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523800" y="2714760"/>
            <a:ext cx="8175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联系上下文理解“窃窃私语”，并想象同学们会说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523800" y="4103640"/>
            <a:ext cx="8175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指导：读出同学们的不懂事、无同情心、幼稚的特点。语气中带有故意、嘲弄的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5"/>
          <p:cNvSpPr/>
          <p:nvPr/>
        </p:nvSpPr>
        <p:spPr>
          <a:xfrm>
            <a:off x="428760" y="3139920"/>
            <a:ext cx="900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”对约翰的态度又是怎样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285840" y="1785960"/>
            <a:ext cx="871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屏住呼吸，希望帕米拉太太不要注意到我身边的空座位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285840" y="4086360"/>
            <a:ext cx="871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抓住“屏住呼吸”、“故意避开”，体会出“我”当时的紧张，对约翰的排斥、 冷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8560" y="1053000"/>
            <a:ext cx="7921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just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        </a:t>
            </a:r>
            <a:r>
              <a:rPr b="0" lang="zh-CN" sz="3200" spc="-1" strike="noStrike">
                <a:solidFill>
                  <a:srgbClr val="8b8b8b"/>
                </a:solidFill>
                <a:latin typeface="Calibri"/>
              </a:rPr>
              <a:t>问：读第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8b8b8b"/>
                </a:solidFill>
                <a:latin typeface="Calibri"/>
              </a:rPr>
              <a:t>、</a:t>
            </a: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8</a:t>
            </a:r>
            <a:r>
              <a:rPr b="0" lang="zh-CN" sz="3200" spc="-1" strike="noStrike">
                <a:solidFill>
                  <a:srgbClr val="8b8b8b"/>
                </a:solidFill>
                <a:latin typeface="Calibri"/>
              </a:rPr>
              <a:t>自然段，了解“我”对约翰的关注，对约翰态度的悄然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副标题 3"/>
          <p:cNvSpPr/>
          <p:nvPr/>
        </p:nvSpPr>
        <p:spPr>
          <a:xfrm>
            <a:off x="489600" y="2565000"/>
            <a:ext cx="8586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①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几乎连数数都不会”——看不起。   ②“我每天放学回家都提起约翰如何如何”——关注约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副标题 3"/>
          <p:cNvSpPr/>
          <p:nvPr/>
        </p:nvSpPr>
        <p:spPr>
          <a:xfrm>
            <a:off x="395280" y="1916280"/>
            <a:ext cx="79214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问：品读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，抓住“看看四周”、“低声”，体会“我”当时内心情感活动，想象此时此刻，“我”的内心又是怎样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副标题 3"/>
          <p:cNvSpPr/>
          <p:nvPr/>
        </p:nvSpPr>
        <p:spPr>
          <a:xfrm>
            <a:off x="395280" y="4148280"/>
            <a:ext cx="7921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答：“我”想与约翰进一步交往但又怕别人嘲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副标题 3"/>
          <p:cNvSpPr/>
          <p:nvPr/>
        </p:nvSpPr>
        <p:spPr>
          <a:xfrm>
            <a:off x="395280" y="1916280"/>
            <a:ext cx="79214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问：读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，读“我”为什么决定跟约翰交朋友的语句，体会“我”对约翰的情感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副标题 3"/>
          <p:cNvSpPr/>
          <p:nvPr/>
        </p:nvSpPr>
        <p:spPr>
          <a:xfrm>
            <a:off x="395280" y="3981600"/>
            <a:ext cx="7921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答：“我”对约翰的认识发生了质的变化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性格好，能使人愉快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家对他的嘲讽与讥笑是因为没有真正了解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副标题 3"/>
          <p:cNvSpPr/>
          <p:nvPr/>
        </p:nvSpPr>
        <p:spPr>
          <a:xfrm>
            <a:off x="395280" y="1916280"/>
            <a:ext cx="792144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为什么别人总是欺侮约翰呢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副标题 3"/>
          <p:cNvSpPr/>
          <p:nvPr/>
        </p:nvSpPr>
        <p:spPr>
          <a:xfrm>
            <a:off x="857160" y="2500200"/>
            <a:ext cx="79214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”同情约翰的遭遇，为他抱不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副标题 3"/>
          <p:cNvSpPr/>
          <p:nvPr/>
        </p:nvSpPr>
        <p:spPr>
          <a:xfrm>
            <a:off x="404640" y="3274920"/>
            <a:ext cx="84531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妈妈，明天是约翰的生日，我担心他什么也得不到……谁也不会关心他是不是过生日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副标题 3"/>
          <p:cNvSpPr/>
          <p:nvPr/>
        </p:nvSpPr>
        <p:spPr>
          <a:xfrm>
            <a:off x="714240" y="5143680"/>
            <a:ext cx="79214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体会到“我”对约翰真诚的关心，希望约翰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1262160" y="10526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相关资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395640" y="1676520"/>
            <a:ext cx="8410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祝你生日快乐》的由来：这首歌是全球最受欢迎歌曲榜的榜首之歌，也是人们唱得最多的歌。这首歌曲是美国肯塔基州路易维尔的两姊妹米尔德丽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希尔和帕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希尔创作的。她们俩一个是音乐教师，一个是幼儿园教师。此曲已被全世界所熟知，每逢亲朋好友举行生日聚会，互道祝福，这首歌曲都是不可缺少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副标题 3"/>
          <p:cNvSpPr/>
          <p:nvPr/>
        </p:nvSpPr>
        <p:spPr>
          <a:xfrm>
            <a:off x="395280" y="1916280"/>
            <a:ext cx="824832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的生日会无声无息地悄然溜过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想象：如果你的生日悄然溜走，没人祝福，没人关心，你会怎样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副标题 3"/>
          <p:cNvSpPr/>
          <p:nvPr/>
        </p:nvSpPr>
        <p:spPr>
          <a:xfrm>
            <a:off x="436680" y="4071960"/>
            <a:ext cx="7921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伤感，惋惜，痛苦，担忧，牵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副标题 3"/>
          <p:cNvSpPr/>
          <p:nvPr/>
        </p:nvSpPr>
        <p:spPr>
          <a:xfrm>
            <a:off x="395280" y="1916280"/>
            <a:ext cx="792144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在同学们的目光中，约翰像一只被捕获的小鹿一样惊慌不知所措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副标题 3"/>
          <p:cNvSpPr/>
          <p:nvPr/>
        </p:nvSpPr>
        <p:spPr>
          <a:xfrm>
            <a:off x="428760" y="3143160"/>
            <a:ext cx="7921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句话运用了比喻的修辞手法，写出了妈妈到教室祝贺约翰生日快乐时约翰的表现，真实地表现了约翰的惊喜和激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2160360" cy="718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副标题 3"/>
          <p:cNvSpPr/>
          <p:nvPr/>
        </p:nvSpPr>
        <p:spPr>
          <a:xfrm>
            <a:off x="541080" y="1629000"/>
            <a:ext cx="820692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回顾全文，谈谈自己的感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堂练习（选作一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从文中选择一个人物，谈谈你对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她的感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×××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 我想对你说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当你听到《祝你生日快乐》这首歌时，你想到了什么？仿照课文最后一段写一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27240" y="2565360"/>
            <a:ext cx="6800400" cy="237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8b8b8b"/>
                </a:solidFill>
                <a:latin typeface="Calibri"/>
              </a:rPr>
              <a:t>再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3135960" y="546264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祝你生日快乐八音盒版.Mp3" descr=""/>
          <p:cNvPicPr/>
          <p:nvPr/>
        </p:nvPicPr>
        <p:blipFill>
          <a:blip r:embed="rId1"/>
          <a:stretch/>
        </p:blipFill>
        <p:spPr>
          <a:xfrm>
            <a:off x="7020000" y="515772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695160" y="1197000"/>
            <a:ext cx="561636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delay="0"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4"/>
          <p:cNvSpPr/>
          <p:nvPr/>
        </p:nvSpPr>
        <p:spPr>
          <a:xfrm>
            <a:off x="826920" y="2768760"/>
            <a:ext cx="799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窃    嘲     窘     蔑   艾   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984240" y="4809960"/>
            <a:ext cx="7330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讥   侮   糕   额   唯   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845280" y="11253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826920" y="1832040"/>
            <a:ext cx="799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iè  cháo jiǒng miè  ài  liá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984240" y="3789360"/>
            <a:ext cx="799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ī   wǔ   gāo  é   wéi  l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6"/>
          <p:cNvSpPr/>
          <p:nvPr/>
        </p:nvSpPr>
        <p:spPr>
          <a:xfrm>
            <a:off x="468360" y="2781360"/>
            <a:ext cx="8349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嘲：翘舌音，不要读成平舌音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窘：声母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不要读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1428840" y="112536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易读错的字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6"/>
          <p:cNvSpPr/>
          <p:nvPr/>
        </p:nvSpPr>
        <p:spPr>
          <a:xfrm>
            <a:off x="684360" y="2061000"/>
            <a:ext cx="763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窃：上面是“穴”，不要写成“宀”。 蔑：上面是“艹”，不要写成“⺮”，下面中间一点不要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聊：右边是“卯”，不要少写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廊：半包围结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1625400" y="9810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易混淆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5"/>
          <p:cNvSpPr/>
          <p:nvPr/>
        </p:nvSpPr>
        <p:spPr>
          <a:xfrm>
            <a:off x="1890720" y="2039760"/>
            <a:ext cx="687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形容残破陈旧得不成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596880" y="1928880"/>
            <a:ext cx="154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破旧不堪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6"/>
          <p:cNvSpPr/>
          <p:nvPr/>
        </p:nvSpPr>
        <p:spPr>
          <a:xfrm>
            <a:off x="596880" y="3286080"/>
            <a:ext cx="154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窃窃私语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5"/>
          <p:cNvSpPr/>
          <p:nvPr/>
        </p:nvSpPr>
        <p:spPr>
          <a:xfrm>
            <a:off x="1890720" y="3376440"/>
            <a:ext cx="639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私下里小声交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96880" y="4711680"/>
            <a:ext cx="154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无声无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5"/>
          <p:cNvSpPr/>
          <p:nvPr/>
        </p:nvSpPr>
        <p:spPr>
          <a:xfrm>
            <a:off x="1785960" y="4711680"/>
            <a:ext cx="6980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没有声音和气息，形容没有动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或没有什么影响、作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755640" y="126828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词语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5"/>
          <p:cNvSpPr/>
          <p:nvPr/>
        </p:nvSpPr>
        <p:spPr>
          <a:xfrm>
            <a:off x="1785960" y="3014640"/>
            <a:ext cx="842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形容文雅而有礼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596880" y="2514600"/>
            <a:ext cx="154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彬彬有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6"/>
          <p:cNvSpPr/>
          <p:nvPr/>
        </p:nvSpPr>
        <p:spPr>
          <a:xfrm>
            <a:off x="596880" y="3871800"/>
            <a:ext cx="154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知所措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5"/>
          <p:cNvSpPr/>
          <p:nvPr/>
        </p:nvSpPr>
        <p:spPr>
          <a:xfrm>
            <a:off x="1785960" y="4297320"/>
            <a:ext cx="65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知道怎么办才好。形容受窘或发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755640" y="126828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词语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5"/>
          <p:cNvSpPr/>
          <p:nvPr/>
        </p:nvSpPr>
        <p:spPr>
          <a:xfrm>
            <a:off x="1785960" y="2428920"/>
            <a:ext cx="842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形容穷困；十分为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96880" y="2421000"/>
            <a:ext cx="154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窘迫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596880" y="3286080"/>
            <a:ext cx="154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轻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1785960" y="3286080"/>
            <a:ext cx="842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轻视，不放在眼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596880" y="4140360"/>
            <a:ext cx="1545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尴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1785960" y="4140360"/>
            <a:ext cx="842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处境困难，不好处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755640" y="126828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词语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2046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3T05:48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1-14T05:45:17Z</dcterms:modified>
  <cp:revision>1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24</vt:r8>
  </property>
</Properties>
</file>