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B78546-495F-467B-A300-23068497B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E36DC8-9565-4249-AA6E-60B5B7A531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403F1C-8394-433A-A29C-E768AA5A8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39640" y="1484280"/>
            <a:ext cx="813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祝你生日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395280" y="4029120"/>
            <a:ext cx="3671640" cy="250308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3309120" y="5229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87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1071720" y="2357280"/>
            <a:ext cx="692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头发蓬乱，身上穿着不知从哪儿捡来的衣服，脚上的鞋子破旧不堪，已经张开了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91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1357200" y="2500200"/>
            <a:ext cx="67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是什么呀？”坐在我身后的男孩小声问。“开了天窗。”一个女孩轻蔑地说，并咯咯地笑了起来。他们在嘲笑约翰的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95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1500120" y="235728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约翰微笑着看着大家，希望有人也能对他微笑，但大家都面无表情，他只好一个人尴尬地站在那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99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1285920" y="235728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屏住呼吸，希望帕米拉太太不要注意到我身边的空座位。但她还是朝这边看了，并示意约翰到我身边坐下，他坐下的时候看了我一眼，我故意避开了他的目光，免得他心存幻想，以为我可以成为他的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03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04" name="矩形 7"/>
          <p:cNvSpPr/>
          <p:nvPr/>
        </p:nvSpPr>
        <p:spPr>
          <a:xfrm>
            <a:off x="1214280" y="250020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1500120" y="242892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课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—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思考：“我”对约翰的态度发生了怎样的变化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0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1714680" y="235728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000080" y="2000160"/>
            <a:ext cx="7071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组成员采用多种方式朗读课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—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从哪些语句中体会到“我”已经把约翰当作好朋友了？多读读，体会感情，批注并交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尝试读文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组织讨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总结发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13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14" name="矩形 7"/>
          <p:cNvSpPr/>
          <p:nvPr/>
        </p:nvSpPr>
        <p:spPr>
          <a:xfrm>
            <a:off x="1714680" y="235728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3777840" y="2571840"/>
            <a:ext cx="19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别人总是欺侮约翰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1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19" name="矩形 7"/>
          <p:cNvSpPr/>
          <p:nvPr/>
        </p:nvSpPr>
        <p:spPr>
          <a:xfrm>
            <a:off x="1714680" y="235728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1285920" y="235728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读妈妈到学校给约翰过生日的场面，感受浓浓的母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23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124" name="矩形 7"/>
          <p:cNvSpPr/>
          <p:nvPr/>
        </p:nvSpPr>
        <p:spPr>
          <a:xfrm>
            <a:off x="1714680" y="2357280"/>
            <a:ext cx="664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/>
          <p:cNvSpPr/>
          <p:nvPr/>
        </p:nvSpPr>
        <p:spPr>
          <a:xfrm>
            <a:off x="1500120" y="2428920"/>
            <a:ext cx="6500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第四段，思考回答为什么“我”认为妈妈送给约翰的生日蛋糕是最美味可口的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深情诵读排比句“但每当……就会想起……想起……想起……想起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概括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28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040" cy="141876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1071720" y="2286000"/>
            <a:ext cx="642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主要讲述了“我”为朋友约翰生日无人过问担忧，而“我”的妈妈出乎意料地买来蛋糕为约翰庆祝生日这件事，赞扬了“我”和妈妈真诚对待朋友，热诚关爱朋友的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cxnSp>
          <p:nvCxnSpPr>
            <p:cNvPr id="48" name="直线连接符 21"/>
            <p:cNvCxnSpPr/>
            <p:nvPr/>
          </p:nvCxnSpPr>
          <p:spPr>
            <a:xfrm flipV="1">
              <a:off x="268200" y="1688760"/>
              <a:ext cx="225612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49" name="同侧圆角矩形 23"/>
            <p:cNvSpPr/>
            <p:nvPr/>
          </p:nvSpPr>
          <p:spPr>
            <a:xfrm>
              <a:off x="452520" y="112536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0400" cy="1482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052640" y="235728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357280" y="2214720"/>
            <a:ext cx="5571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755640" y="1928880"/>
            <a:ext cx="778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辞藻的华丽，文笔的流畅是有限，想象则是无限的，因此作者在创作时为了文章的精炼，为了留给读者更多遐想，往往会在字里行间留下许多空白，或描述到某一境界就不再做细细铺展，或叙述到精彩之处，便戛然而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32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280" cy="1460160"/>
          </a:xfrm>
          <a:prstGeom prst="rect">
            <a:avLst/>
          </a:prstGeom>
          <a:ln w="0">
            <a:noFill/>
          </a:ln>
        </p:spPr>
      </p:pic>
      <p:sp>
        <p:nvSpPr>
          <p:cNvPr id="133" name="矩形 6"/>
          <p:cNvSpPr/>
          <p:nvPr/>
        </p:nvSpPr>
        <p:spPr>
          <a:xfrm>
            <a:off x="826920" y="2282760"/>
            <a:ext cx="664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比手法突出人物形象。纵向对比：“我”对约翰的态度前后形成鲜明对比；横向对比：帕米拉太太对约翰的态度与我们对约翰的态度形成对比，“我”后来对约翰的态度与同学们对约翰的态度形成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36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080" cy="1655280"/>
          </a:xfrm>
          <a:prstGeom prst="rect">
            <a:avLst/>
          </a:prstGeom>
          <a:ln w="0">
            <a:noFill/>
          </a:ln>
        </p:spPr>
      </p:pic>
      <p:sp>
        <p:nvSpPr>
          <p:cNvPr id="137" name="矩形 6"/>
          <p:cNvSpPr/>
          <p:nvPr/>
        </p:nvSpPr>
        <p:spPr>
          <a:xfrm>
            <a:off x="1857240" y="2714760"/>
            <a:ext cx="621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1143000" y="2428920"/>
            <a:ext cx="614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从文中选择一个人物，与他谈谈你的感受“我想对你说”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当你听到《祝你生日快乐》这首歌时，你想到了什么，仿照课文最后一段写一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41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485640" y="4508640"/>
            <a:ext cx="2231640" cy="1657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971640" y="2565360"/>
            <a:ext cx="129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1785960" y="2571840"/>
            <a:ext cx="621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位多么有爱心的妈妈呀！孩子的朋友就是妈妈的朋友，虽然，文中对妈妈的描写不多，但一字一句浸透着她对约翰来自内心的关爱，一举一动都流露出她对约翰的真情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146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767640" y="549360"/>
            <a:ext cx="2376000" cy="1661760"/>
          </a:xfrm>
          <a:prstGeom prst="rect">
            <a:avLst/>
          </a:prstGeom>
          <a:ln w="0">
            <a:noFill/>
          </a:ln>
        </p:spPr>
      </p:pic>
      <p:sp>
        <p:nvSpPr>
          <p:cNvPr id="147" name="矩形 6"/>
          <p:cNvSpPr/>
          <p:nvPr/>
        </p:nvSpPr>
        <p:spPr>
          <a:xfrm>
            <a:off x="571680" y="2071800"/>
            <a:ext cx="7643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出下列词语的反义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寒酸——（          ） 温柔——（          ）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温润——（          ） 熟悉——（         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2428920" y="2648520"/>
            <a:ext cx="4928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奢华                      粗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燥                      陌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642960" y="3857760"/>
            <a:ext cx="8500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比一比，再组词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凋（      ） 簇（     ）  萤（      ） 婉（       ）稠（      ） 族（     ）  莹（     ）  惋（      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1428840" y="4429080"/>
            <a:ext cx="714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凋谢             簇拥            萤火虫            婉转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稠密             民族             晶莹              惋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55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56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57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3240"/>
            <a:ext cx="2520720" cy="1763280"/>
          </a:xfrm>
          <a:prstGeom prst="rect">
            <a:avLst/>
          </a:prstGeom>
          <a:ln w="0">
            <a:noFill/>
          </a:ln>
        </p:spPr>
      </p:pic>
      <p:sp>
        <p:nvSpPr>
          <p:cNvPr id="59" name="矩形 10"/>
          <p:cNvSpPr/>
          <p:nvPr/>
        </p:nvSpPr>
        <p:spPr>
          <a:xfrm>
            <a:off x="1428840" y="2571840"/>
            <a:ext cx="607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内批改听写，小组交流、全班反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组织批改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指导观察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练习发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线连接符 21"/>
          <p:cNvCxnSpPr/>
          <p:nvPr/>
        </p:nvCxnSpPr>
        <p:spPr>
          <a:xfrm flipV="1">
            <a:off x="468000" y="19238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62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7720" cy="140292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2071800" y="2714760"/>
            <a:ext cx="5785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窃窃私语  嘲笑  窘迫  轻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艾米斯    聊天  讥笑  欺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蛋糕      额头  走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66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1500120" y="2286000"/>
            <a:ext cx="6286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快速地浏览课文，课文主要写了哪两个人之间的交往？在交往的过程中谁的态度变化大？是怎样变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70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375240" y="7858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71" name="矩形 7"/>
          <p:cNvSpPr/>
          <p:nvPr/>
        </p:nvSpPr>
        <p:spPr>
          <a:xfrm>
            <a:off x="1285920" y="228600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~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讲“我”和约翰第一次见面的情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~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讲“我”在与约翰的交往中慢慢了解了他，决定做他的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74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375240" y="7858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75" name="矩形 7"/>
          <p:cNvSpPr/>
          <p:nvPr/>
        </p:nvSpPr>
        <p:spPr>
          <a:xfrm>
            <a:off x="1285920" y="228600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~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讲“我”为约翰的生日会无人祝贺而担忧，但出乎意料的是妈妈为约翰买了一个大蛋糕，使约翰过了一个难忘的生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讲每当“我”听到《祝你生日快乐》这首歌时，就会想起妈妈为约翰庆祝生日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7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79" name="矩形 7"/>
          <p:cNvSpPr/>
          <p:nvPr/>
        </p:nvSpPr>
        <p:spPr>
          <a:xfrm>
            <a:off x="1285920" y="2357280"/>
            <a:ext cx="67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1285920" y="2428920"/>
            <a:ext cx="64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第一部分，思考：作者第一次见到约翰是怎样的态度呢？同学们有事怎样的态度呢？找出有关句子，画出关键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83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84720" y="4229280"/>
            <a:ext cx="2768400" cy="19364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1285920" y="2357280"/>
            <a:ext cx="65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虽然还不太确定如何接纳这位新同学，但已经有人在窃窃私语，嘲笑他的窘迫寒酸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ges>0</Pages>
  <Words>1674</Words>
  <Characters>0</Characters>
  <CharactersWithSpaces>0</CharactersWithSpace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11:43:06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14T05:57:36Z</dcterms:modified>
  <cp:revision>1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