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hdphoto1.wdp" ContentType="image/vnd.ms-photo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9CE846-A21F-4352-B97F-A7FF2F42B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4F8CED-C564-4D38-BCAB-4CBB4C2FC0B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028906-CABB-4253-90EB-B63B0370043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D941AB-4493-45EA-A02C-30BD650CAA9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95BC9-C4B9-4719-A0A0-E168DEAA8BA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2FB7A2-871C-45EA-8E31-EC920B2DA7F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96B315-E088-4ADD-909F-010C46CDC7D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FDD124-B8A4-4A53-ABE7-035856B1CA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906D88-8CAC-46B6-A6CB-F68D8036E61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C2408B-F20F-44BA-899A-CDD787BCCC2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D450D6-BD82-4A65-AC80-9B3BA48DB1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C59755-58FD-4E41-8846-9965D8DBE1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3056DB-905A-4CD8-99E4-5869061BFB2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9BF312-D04A-4B15-AE1F-16D1A408D94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BC89B9-5443-47E9-BB45-AF2A83177D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6A2690-9A11-4CAB-8D9E-B4CEFAAC94A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A0BB77-AEAB-48F0-8064-4F99D2731F9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151DBE-68FF-495A-B231-327FB102813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B138FF-BB4B-48E1-AE59-22C21C98711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66CBA0-A297-4246-B7BD-759EA6293FB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088845-6037-4847-954B-3032BC062DC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DC38C5-F335-432E-90E2-5BE089A4994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6B3A2F-A131-4BF8-9B93-DBC94EF534E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2437B1-0CA9-4D35-B42C-4AED64CA909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94189F-C8DC-4A38-A9AC-6F1ADD8D4A9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" descr="图片包含 文字&#10;&#10;已生成高可信度的说明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1080"/>
            <a:ext cx="9143640" cy="514116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4"/>
          <p:cNvSpPr/>
          <p:nvPr/>
        </p:nvSpPr>
        <p:spPr>
          <a:xfrm>
            <a:off x="1488960" y="1760040"/>
            <a:ext cx="6170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  <a:scene3d>
              <a:camera prst="orthographicFront"/>
              <a:lightRig dir="t" rig="threePt"/>
            </a:scene3d>
            <a:sp3d contourW="12700"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《这片土地是神圣的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687480" y="1133280"/>
            <a:ext cx="1772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鲁教版四年级语文课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4092480"/>
            <a:ext cx="91436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57040" indent="-25704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175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6" descr="图片包含 文字&#10;&#10;已生成高可信度的说明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1080"/>
            <a:ext cx="9143640" cy="5141160"/>
          </a:xfrm>
          <a:prstGeom prst="rect">
            <a:avLst/>
          </a:prstGeom>
          <a:ln w="0">
            <a:noFill/>
          </a:ln>
        </p:spPr>
      </p:pic>
      <p:grpSp>
        <p:nvGrpSpPr>
          <p:cNvPr id="133" name="组合 11"/>
          <p:cNvGrpSpPr/>
          <p:nvPr/>
        </p:nvGrpSpPr>
        <p:grpSpPr>
          <a:xfrm>
            <a:off x="2308680" y="1280160"/>
            <a:ext cx="4556880" cy="638280"/>
            <a:chOff x="2308680" y="1280160"/>
            <a:chExt cx="4556880" cy="638280"/>
          </a:xfrm>
        </p:grpSpPr>
        <p:sp>
          <p:nvSpPr>
            <p:cNvPr id="134" name="矩形 12"/>
            <p:cNvSpPr/>
            <p:nvPr/>
          </p:nvSpPr>
          <p:spPr>
            <a:xfrm>
              <a:off x="2308680" y="1588680"/>
              <a:ext cx="91980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54a7b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5" name="矩形 13"/>
            <p:cNvSpPr/>
            <p:nvPr/>
          </p:nvSpPr>
          <p:spPr>
            <a:xfrm>
              <a:off x="5945760" y="1588680"/>
              <a:ext cx="91980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54a7b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6" name="TextBox 4"/>
            <p:cNvSpPr/>
            <p:nvPr/>
          </p:nvSpPr>
          <p:spPr>
            <a:xfrm>
              <a:off x="3858480" y="1280160"/>
              <a:ext cx="14500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449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第三部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3"/>
          <p:cNvSpPr/>
          <p:nvPr/>
        </p:nvSpPr>
        <p:spPr>
          <a:xfrm>
            <a:off x="2941200" y="1967400"/>
            <a:ext cx="3284280" cy="28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课文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7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75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39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0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2"/>
          <p:cNvSpPr/>
          <p:nvPr/>
        </p:nvSpPr>
        <p:spPr>
          <a:xfrm>
            <a:off x="2268000" y="996840"/>
            <a:ext cx="405792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常青城——西雅图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400400" y="1625400"/>
            <a:ext cx="644004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　西雅图被称为常青城，这是一个不可思议的城市。它海拔最低，却有古老的冰川，活跃的火山和终年积雪的山峰。西雅图又是一个得天独厚的城市，它拥有青山、湖泊，拥有港湾、河道，拥有温润的气候，如春的四季。无论是在美国本土，还是在世界其他地方，几乎找不到第二个城市能像西雅图那样，山峦、平地都被密密的、几近原始的森林所覆盖。而在环绕着城市的青山之中，又错落地隐藏着几十个大小不等的湖泊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116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7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116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7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44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5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6"/>
          <p:cNvSpPr/>
          <p:nvPr/>
        </p:nvSpPr>
        <p:spPr>
          <a:xfrm>
            <a:off x="2391120" y="1686240"/>
            <a:ext cx="4172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想一想：西雅图在信中都讲了哪些内容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5963400" y="3585240"/>
            <a:ext cx="2514600" cy="628200"/>
          </a:xfrm>
          <a:prstGeom prst="rect">
            <a:avLst/>
          </a:prstGeom>
        </p:spPr>
        <p:txBody>
          <a:bodyPr wrap="none" lIns="68400" rIns="68400" tIns="34200" bIns="34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</a:rPr>
              <a:t>默读课文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49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0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"/>
          <p:cNvSpPr/>
          <p:nvPr/>
        </p:nvSpPr>
        <p:spPr>
          <a:xfrm>
            <a:off x="1202400" y="1095120"/>
            <a:ext cx="228600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主要内容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046880" y="1713960"/>
            <a:ext cx="6515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全文可分为三个部分：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（一）用大量事实告诉人们这块土地是神圣的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（二）要求人们善待这块神圣的土地，保护好河水，保护好空气，保护好这块土地上的动物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（三）强调大地是人类的母亲，我们要用全部的力量和情感来保护它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54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5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3"/>
          <p:cNvSpPr/>
          <p:nvPr/>
        </p:nvSpPr>
        <p:spPr>
          <a:xfrm>
            <a:off x="1514520" y="2170440"/>
            <a:ext cx="5448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、这片土地指的是哪片土地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80"/>
              </a:spcBef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5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  <a:ea typeface="微软雅黑"/>
              </a:rPr>
              <a:t>2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  <a:ea typeface="微软雅黑"/>
              </a:rPr>
              <a:t>、文中哪些地方体现了这片土地是神圣的？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1305000" y="1053720"/>
            <a:ext cx="3371760" cy="742320"/>
          </a:xfrm>
          <a:prstGeom prst="rect">
            <a:avLst/>
          </a:prstGeom>
        </p:spPr>
        <p:txBody>
          <a:bodyPr wrap="none" lIns="68400" rIns="68400" tIns="34200" bIns="34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</a:rPr>
              <a:t>再读课文，思考问题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59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0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2"/>
          <p:cNvSpPr/>
          <p:nvPr/>
        </p:nvSpPr>
        <p:spPr>
          <a:xfrm>
            <a:off x="751680" y="942840"/>
            <a:ext cx="502956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这片土地——</a:t>
            </a:r>
            <a:br>
              <a:rPr sz="5900"/>
            </a:b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美国西北部的印第安人领地。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040" y="3853080"/>
            <a:ext cx="342900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神圣的土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419480" y="2021400"/>
            <a:ext cx="605844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90000"/>
              </a:lnSpc>
              <a:spcBef>
                <a:spcPts val="85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土地上的每一种事物，在我们这个民族的记忆和体验中，都是圣洁的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5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我们是大地的一部分，大地也是我们的一部分。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5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溪流河川中闪闪发光的不仅仅是水，也是我们祖先的血液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65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2"/>
          <p:cNvSpPr/>
          <p:nvPr/>
        </p:nvSpPr>
        <p:spPr>
          <a:xfrm>
            <a:off x="1803960" y="1390320"/>
            <a:ext cx="5537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我们是大地的一部分，大地也是我们的一部分。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0600" y="2247480"/>
            <a:ext cx="733500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  大地滋养着世上万物，人类只是万物中的一个群体；同样，人类的生命成长离不开大地上各种自然资源的给予。这句话充分地表明了人类与大地不可分割的关系，也预示着这片神圣的土地对于我们有多么重要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70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1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2"/>
          <p:cNvSpPr/>
          <p:nvPr/>
        </p:nvSpPr>
        <p:spPr>
          <a:xfrm>
            <a:off x="1733040" y="1238040"/>
            <a:ext cx="5258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我们和大地上的山峦河流、动物植物共同属于一个家园。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046880" y="2037960"/>
            <a:ext cx="6001200" cy="19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　起伏的群山蕴藏着宝贵的资源，流淌的河水养育着生命；动物与植物直接或间接地影响着人类的生活和生存，是人类不可或缺的朋友。这句话告诉我们：不应该以旁观者的姿态，而应该用主人的身份去保护自己的家园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75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6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2"/>
          <p:cNvSpPr/>
          <p:nvPr/>
        </p:nvSpPr>
        <p:spPr>
          <a:xfrm>
            <a:off x="1795680" y="1086840"/>
            <a:ext cx="5553360" cy="14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溪流河川中闪闪发光的不仅仅是水，也是我们祖先的血液。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969120" y="2218320"/>
            <a:ext cx="69040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　水是生命的源泉。正是祖辈的辛勤呵护，水源才不至于被破坏、被污染。他们保护家园、捍卫纯洁的精神，将在时间长河中熠熠闪光，不断提醒人们应该爱护水源，就像尊重人类的祖先一样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116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7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116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7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80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1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2"/>
          <p:cNvSpPr/>
          <p:nvPr/>
        </p:nvSpPr>
        <p:spPr>
          <a:xfrm>
            <a:off x="1657440" y="2228400"/>
            <a:ext cx="4800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面对这片神圣的土地，</a:t>
            </a:r>
            <a:br>
              <a:rPr sz="5900"/>
            </a:b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西雅图认为我们应该怎么做？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86120" y="1199880"/>
            <a:ext cx="5258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朗读课文二、三部分，思考问题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3" descr="图片包含 文字&#10;&#10;已生成高可信度的说明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1080"/>
            <a:ext cx="9143640" cy="51411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34"/>
          <p:cNvGrpSpPr/>
          <p:nvPr/>
        </p:nvGrpSpPr>
        <p:grpSpPr>
          <a:xfrm>
            <a:off x="2693160" y="913680"/>
            <a:ext cx="815400" cy="2596320"/>
            <a:chOff x="2693160" y="913680"/>
            <a:chExt cx="815400" cy="2596320"/>
          </a:xfrm>
        </p:grpSpPr>
        <p:sp>
          <p:nvSpPr>
            <p:cNvPr id="50" name="矩形 35"/>
            <p:cNvSpPr/>
            <p:nvPr/>
          </p:nvSpPr>
          <p:spPr>
            <a:xfrm rot="5400000">
              <a:off x="2813040" y="1211400"/>
              <a:ext cx="62928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" name="矩形 36"/>
            <p:cNvSpPr/>
            <p:nvPr/>
          </p:nvSpPr>
          <p:spPr>
            <a:xfrm rot="5400000">
              <a:off x="2813040" y="3178440"/>
              <a:ext cx="62928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2" name="TextBox 4"/>
            <p:cNvSpPr/>
            <p:nvPr/>
          </p:nvSpPr>
          <p:spPr>
            <a:xfrm>
              <a:off x="2693160" y="1587600"/>
              <a:ext cx="81540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100" spc="449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目录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38"/>
          <p:cNvGrpSpPr/>
          <p:nvPr/>
        </p:nvGrpSpPr>
        <p:grpSpPr>
          <a:xfrm>
            <a:off x="3695040" y="956520"/>
            <a:ext cx="2919600" cy="2513160"/>
            <a:chOff x="3695040" y="956520"/>
            <a:chExt cx="2919600" cy="2513160"/>
          </a:xfrm>
        </p:grpSpPr>
        <p:sp>
          <p:nvSpPr>
            <p:cNvPr id="54" name="椭圆 39"/>
            <p:cNvSpPr/>
            <p:nvPr/>
          </p:nvSpPr>
          <p:spPr>
            <a:xfrm>
              <a:off x="3695040" y="956520"/>
              <a:ext cx="422640" cy="420840"/>
            </a:xfrm>
            <a:prstGeom prst="ellipse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40"/>
            <p:cNvSpPr/>
            <p:nvPr/>
          </p:nvSpPr>
          <p:spPr>
            <a:xfrm>
              <a:off x="3695040" y="1652760"/>
              <a:ext cx="422640" cy="422280"/>
            </a:xfrm>
            <a:prstGeom prst="ellipse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41"/>
            <p:cNvSpPr/>
            <p:nvPr/>
          </p:nvSpPr>
          <p:spPr>
            <a:xfrm>
              <a:off x="3695040" y="2350800"/>
              <a:ext cx="422640" cy="420840"/>
            </a:xfrm>
            <a:prstGeom prst="ellipse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42"/>
            <p:cNvSpPr/>
            <p:nvPr/>
          </p:nvSpPr>
          <p:spPr>
            <a:xfrm>
              <a:off x="3695040" y="3047400"/>
              <a:ext cx="422640" cy="422280"/>
            </a:xfrm>
            <a:prstGeom prst="ellipse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3"/>
            <p:cNvSpPr/>
            <p:nvPr/>
          </p:nvSpPr>
          <p:spPr>
            <a:xfrm>
              <a:off x="4304520" y="958320"/>
              <a:ext cx="23101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1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前导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44"/>
            <p:cNvSpPr/>
            <p:nvPr/>
          </p:nvSpPr>
          <p:spPr>
            <a:xfrm>
              <a:off x="4304520" y="1642320"/>
              <a:ext cx="23101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1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认字识词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45"/>
            <p:cNvSpPr/>
            <p:nvPr/>
          </p:nvSpPr>
          <p:spPr>
            <a:xfrm>
              <a:off x="4304520" y="2350800"/>
              <a:ext cx="23101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1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赏析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46"/>
            <p:cNvSpPr/>
            <p:nvPr/>
          </p:nvSpPr>
          <p:spPr>
            <a:xfrm>
              <a:off x="4304520" y="3050640"/>
              <a:ext cx="23101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1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知识拓展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5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85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6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2"/>
          <p:cNvSpPr/>
          <p:nvPr/>
        </p:nvSpPr>
        <p:spPr>
          <a:xfrm>
            <a:off x="1781280" y="794520"/>
            <a:ext cx="4858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任何降临在大地上的事，终究会降临在大地的孩子身上。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62120" y="1784880"/>
            <a:ext cx="7258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　地球是人类的家园，人类在大地母亲的怀抱里成长。如果家园受到破坏，而我们不能及时醒悟，不懂得及时补救挽回，那么任何对大地的影响，对地球的伤害都将演变成对人类自身的伤害。这句话直接将人类的生存与大地的保护联系起来，指出了两者兴则共兴、灭则同灭的密切关系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90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1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文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2"/>
          <p:cNvSpPr/>
          <p:nvPr/>
        </p:nvSpPr>
        <p:spPr>
          <a:xfrm>
            <a:off x="1743480" y="1161720"/>
            <a:ext cx="5029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大地不属于人类，而人类是属于大地的。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046880" y="2018880"/>
            <a:ext cx="594396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9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　谁也没有权利拥有对大地的控制权，谁也没有权利破坏、损伤大地的完整和庄严；相反，人类属于大地，因为大地使人类的生命不断得以繁衍、延续。因此，只有爱护大地上的一草一木、一山一石，才能维持生命的延续。这也正是文章的中心所在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6" descr="图片包含 文字&#10;&#10;已生成高可信度的说明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1080"/>
            <a:ext cx="9143640" cy="514116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1"/>
          <p:cNvGrpSpPr/>
          <p:nvPr/>
        </p:nvGrpSpPr>
        <p:grpSpPr>
          <a:xfrm>
            <a:off x="2308680" y="1280160"/>
            <a:ext cx="4556880" cy="638280"/>
            <a:chOff x="2308680" y="1280160"/>
            <a:chExt cx="4556880" cy="638280"/>
          </a:xfrm>
        </p:grpSpPr>
        <p:sp>
          <p:nvSpPr>
            <p:cNvPr id="196" name="矩形 12"/>
            <p:cNvSpPr/>
            <p:nvPr/>
          </p:nvSpPr>
          <p:spPr>
            <a:xfrm>
              <a:off x="2308680" y="1588680"/>
              <a:ext cx="91980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54a7b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7" name="矩形 13"/>
            <p:cNvSpPr/>
            <p:nvPr/>
          </p:nvSpPr>
          <p:spPr>
            <a:xfrm>
              <a:off x="5945760" y="1588680"/>
              <a:ext cx="91980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54a7b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8" name="TextBox 4"/>
            <p:cNvSpPr/>
            <p:nvPr/>
          </p:nvSpPr>
          <p:spPr>
            <a:xfrm>
              <a:off x="3858480" y="1280160"/>
              <a:ext cx="14500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449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第四部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文本框 3"/>
          <p:cNvSpPr/>
          <p:nvPr/>
        </p:nvSpPr>
        <p:spPr>
          <a:xfrm>
            <a:off x="2941200" y="1967400"/>
            <a:ext cx="3284280" cy="28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知识拓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9" dur="7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50"/>
                            </p:stCondLst>
                            <p:childTnLst>
                              <p:par>
                                <p:cTn id="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75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201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2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知识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1421640" y="2572200"/>
            <a:ext cx="59583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这句话是体现课文主旨的语句。这句话反复出现，产生了一咏三叹的表达效果，不仅使主题深化，而且强化了作者想要表达的情感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686240" y="1211760"/>
            <a:ext cx="542952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为什么“如果我们放弃这片土地，转让给你们，你们一定要记住：这片土地是神圣的”这句话在课文中反复出现了三次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6" descr="图片包含 文字&#10;&#10;已生成高可信度的说明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1080"/>
            <a:ext cx="9143640" cy="514116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12"/>
          <p:cNvSpPr/>
          <p:nvPr/>
        </p:nvSpPr>
        <p:spPr>
          <a:xfrm>
            <a:off x="1488960" y="1760040"/>
            <a:ext cx="6170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  <a:scene3d>
              <a:camera prst="orthographicFront"/>
              <a:lightRig dir="t" rig="threePt"/>
            </a:scene3d>
            <a:sp3d contourW="12700"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同学们下课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再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0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50"/>
                            </p:stCondLst>
                            <p:childTnLst>
                              <p:par>
                                <p:cTn id="632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7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7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7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7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图片包含 文字&#10;&#10;已生成高可信度的说明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1080"/>
            <a:ext cx="9143640" cy="5141160"/>
          </a:xfrm>
          <a:prstGeom prst="rect">
            <a:avLst/>
          </a:prstGeom>
          <a:ln w="0">
            <a:noFill/>
          </a:ln>
        </p:spPr>
      </p:pic>
      <p:grpSp>
        <p:nvGrpSpPr>
          <p:cNvPr id="63" name="组合 11"/>
          <p:cNvGrpSpPr/>
          <p:nvPr/>
        </p:nvGrpSpPr>
        <p:grpSpPr>
          <a:xfrm>
            <a:off x="2308680" y="1280160"/>
            <a:ext cx="4556880" cy="638280"/>
            <a:chOff x="2308680" y="1280160"/>
            <a:chExt cx="4556880" cy="638280"/>
          </a:xfrm>
        </p:grpSpPr>
        <p:sp>
          <p:nvSpPr>
            <p:cNvPr id="64" name="矩形 12"/>
            <p:cNvSpPr/>
            <p:nvPr/>
          </p:nvSpPr>
          <p:spPr>
            <a:xfrm>
              <a:off x="2308680" y="1588680"/>
              <a:ext cx="91980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54a7b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5" name="矩形 13"/>
            <p:cNvSpPr/>
            <p:nvPr/>
          </p:nvSpPr>
          <p:spPr>
            <a:xfrm>
              <a:off x="5945760" y="1588680"/>
              <a:ext cx="91980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54a7b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6" name="TextBox 4"/>
            <p:cNvSpPr/>
            <p:nvPr/>
          </p:nvSpPr>
          <p:spPr>
            <a:xfrm>
              <a:off x="4235760" y="1280160"/>
              <a:ext cx="695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449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第一部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文本框 3"/>
          <p:cNvSpPr/>
          <p:nvPr/>
        </p:nvSpPr>
        <p:spPr>
          <a:xfrm>
            <a:off x="2941200" y="1967400"/>
            <a:ext cx="3284280" cy="28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课前导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75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69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0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前导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文本框 1"/>
          <p:cNvSpPr/>
          <p:nvPr/>
        </p:nvSpPr>
        <p:spPr>
          <a:xfrm>
            <a:off x="271080" y="1864800"/>
            <a:ext cx="5382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200" rIns="34200" tIns="68400" bIns="684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作者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2445120" y="1872360"/>
            <a:ext cx="47152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印第安酋长西雅图，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ef Seattle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786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66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日）印第安人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黄种人，美洲最古老的居民。是美国华盛顿州境内的印第安人部落的领袖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信奉天主教，乐于与白人移民共处并同西雅图的创立者之一戴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斯温森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纳德建立了私人友谊。根据梅纳德的建议，西雅图即得名于西雅图酋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74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5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前导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文本框 4"/>
          <p:cNvSpPr/>
          <p:nvPr/>
        </p:nvSpPr>
        <p:spPr>
          <a:xfrm>
            <a:off x="271080" y="1864800"/>
            <a:ext cx="5382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200" rIns="34200" tIns="68400" bIns="684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背景知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1495800" y="1751400"/>
            <a:ext cx="59302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１９世纪５０年代，“华盛顿特区”的白人领袖想购买美国西北部的印第安人领地。本文是根据当时印第安人酋长西雅图的回信编译的。西雅图对白人很友好，为了纪念他，美国西北最大的海岸城市命名为西雅图。白人居民还在他的墓地上建立了纪念碑。</a:t>
            </a:r>
            <a:br>
              <a:rPr sz="19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79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80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课前导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"/>
          <p:cNvSpPr/>
          <p:nvPr/>
        </p:nvSpPr>
        <p:spPr>
          <a:xfrm>
            <a:off x="1046880" y="866520"/>
            <a:ext cx="292428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5900" spc="-1" strike="noStrike">
                <a:solidFill>
                  <a:srgbClr val="000000"/>
                </a:solidFill>
                <a:latin typeface="Calibri"/>
              </a:rPr>
              <a:t>印第安人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32440" y="1666440"/>
            <a:ext cx="777456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57200" indent="-457200">
              <a:lnSpc>
                <a:spcPct val="100000"/>
              </a:lnSpc>
              <a:spcBef>
                <a:spcPts val="859"/>
              </a:spcBef>
              <a:tabLst>
                <a:tab algn="l" pos="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　印第安人相信万物有灵论，他们崇敬自然，对自然界的一草一木、一山一石都报以敬畏态度。他们认为大山是有生命的，并把这些山称作“父亲”。印第安人相对比较封闭，他们不希望陌生人打扰他们的生活，直到今天，印第安人的许多村落还没有电、自来水和电视等现代生活设施。目前美国有印第安人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253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万，分属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560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多个部落，居住在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多块印第安保留区内。印第安人中，中低收入的人口占了绝大多数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图片包含 文字&#10;&#10;已生成高可信度的说明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1080"/>
            <a:ext cx="9143640" cy="514116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11"/>
          <p:cNvGrpSpPr/>
          <p:nvPr/>
        </p:nvGrpSpPr>
        <p:grpSpPr>
          <a:xfrm>
            <a:off x="2308680" y="1280160"/>
            <a:ext cx="4556880" cy="638280"/>
            <a:chOff x="2308680" y="1280160"/>
            <a:chExt cx="4556880" cy="638280"/>
          </a:xfrm>
        </p:grpSpPr>
        <p:sp>
          <p:nvSpPr>
            <p:cNvPr id="85" name="矩形 12"/>
            <p:cNvSpPr/>
            <p:nvPr/>
          </p:nvSpPr>
          <p:spPr>
            <a:xfrm>
              <a:off x="2308680" y="1588680"/>
              <a:ext cx="91980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54a7b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86" name="矩形 13"/>
            <p:cNvSpPr/>
            <p:nvPr/>
          </p:nvSpPr>
          <p:spPr>
            <a:xfrm>
              <a:off x="5945760" y="1588680"/>
              <a:ext cx="91980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54a7b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87" name="TextBox 4"/>
            <p:cNvSpPr/>
            <p:nvPr/>
          </p:nvSpPr>
          <p:spPr>
            <a:xfrm>
              <a:off x="3858480" y="1280160"/>
              <a:ext cx="14500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449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第二部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3"/>
          <p:cNvSpPr/>
          <p:nvPr/>
        </p:nvSpPr>
        <p:spPr>
          <a:xfrm>
            <a:off x="2941200" y="1967400"/>
            <a:ext cx="3284280" cy="28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认字识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5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5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90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1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认字识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8"/>
          <p:cNvSpPr/>
          <p:nvPr/>
        </p:nvSpPr>
        <p:spPr>
          <a:xfrm>
            <a:off x="1962360" y="1172520"/>
            <a:ext cx="799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圣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791520" y="1229760"/>
            <a:ext cx="1142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骏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563440" y="1229760"/>
            <a:ext cx="1028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雄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962360" y="1857960"/>
            <a:ext cx="971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潺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791520" y="1857960"/>
            <a:ext cx="857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回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5620320" y="1857960"/>
            <a:ext cx="971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滋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962360" y="2486520"/>
            <a:ext cx="857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善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3791520" y="2486520"/>
            <a:ext cx="857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松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5620320" y="2429640"/>
            <a:ext cx="799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宝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1962360" y="3000960"/>
            <a:ext cx="914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滋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3791520" y="3000960"/>
            <a:ext cx="914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婴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5620320" y="3000960"/>
            <a:ext cx="1028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眷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1962360" y="3515040"/>
            <a:ext cx="1600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闪闪发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1"/>
          <p:cNvGrpSpPr/>
          <p:nvPr/>
        </p:nvGrpSpPr>
        <p:grpSpPr>
          <a:xfrm>
            <a:off x="2705400" y="1172520"/>
            <a:ext cx="4858200" cy="2774160"/>
            <a:chOff x="2705400" y="1172520"/>
            <a:chExt cx="4858200" cy="2774160"/>
          </a:xfrm>
        </p:grpSpPr>
        <p:sp>
          <p:nvSpPr>
            <p:cNvPr id="106" name="Text Box 25"/>
            <p:cNvSpPr/>
            <p:nvPr/>
          </p:nvSpPr>
          <p:spPr>
            <a:xfrm>
              <a:off x="2705400" y="1172520"/>
              <a:ext cx="10285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shè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6"/>
            <p:cNvSpPr/>
            <p:nvPr/>
          </p:nvSpPr>
          <p:spPr>
            <a:xfrm>
              <a:off x="4534560" y="1229760"/>
              <a:ext cx="628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jù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7"/>
            <p:cNvSpPr/>
            <p:nvPr/>
          </p:nvSpPr>
          <p:spPr>
            <a:xfrm>
              <a:off x="6420600" y="1172520"/>
              <a:ext cx="7999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yī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8"/>
            <p:cNvSpPr/>
            <p:nvPr/>
          </p:nvSpPr>
          <p:spPr>
            <a:xfrm>
              <a:off x="2762640" y="1801080"/>
              <a:ext cx="857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chá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9"/>
            <p:cNvSpPr/>
            <p:nvPr/>
          </p:nvSpPr>
          <p:spPr>
            <a:xfrm>
              <a:off x="4534560" y="1857960"/>
              <a:ext cx="10285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dà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0"/>
            <p:cNvSpPr/>
            <p:nvPr/>
          </p:nvSpPr>
          <p:spPr>
            <a:xfrm>
              <a:off x="6592320" y="1857960"/>
              <a:ext cx="742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rù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1"/>
            <p:cNvSpPr/>
            <p:nvPr/>
          </p:nvSpPr>
          <p:spPr>
            <a:xfrm>
              <a:off x="2762640" y="2429640"/>
              <a:ext cx="7999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shà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2"/>
            <p:cNvSpPr/>
            <p:nvPr/>
          </p:nvSpPr>
          <p:spPr>
            <a:xfrm>
              <a:off x="2876760" y="2943720"/>
              <a:ext cx="5713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z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3"/>
            <p:cNvSpPr/>
            <p:nvPr/>
          </p:nvSpPr>
          <p:spPr>
            <a:xfrm>
              <a:off x="4591800" y="2429640"/>
              <a:ext cx="971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zh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4"/>
            <p:cNvSpPr/>
            <p:nvPr/>
          </p:nvSpPr>
          <p:spPr>
            <a:xfrm>
              <a:off x="6592320" y="2372400"/>
              <a:ext cx="857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gu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5"/>
            <p:cNvSpPr/>
            <p:nvPr/>
          </p:nvSpPr>
          <p:spPr>
            <a:xfrm>
              <a:off x="4591800" y="2943720"/>
              <a:ext cx="857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yī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6"/>
            <p:cNvSpPr/>
            <p:nvPr/>
          </p:nvSpPr>
          <p:spPr>
            <a:xfrm>
              <a:off x="6535080" y="3000960"/>
              <a:ext cx="10285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juà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7"/>
            <p:cNvSpPr/>
            <p:nvPr/>
          </p:nvSpPr>
          <p:spPr>
            <a:xfrm>
              <a:off x="3391200" y="3491280"/>
              <a:ext cx="1085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shǎ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7"/>
          <p:cNvGrpSpPr/>
          <p:nvPr/>
        </p:nvGrpSpPr>
        <p:grpSpPr>
          <a:xfrm>
            <a:off x="1046880" y="172440"/>
            <a:ext cx="7169760" cy="366480"/>
            <a:chOff x="1046880" y="172440"/>
            <a:chExt cx="7169760" cy="366480"/>
          </a:xfrm>
        </p:grpSpPr>
        <p:sp>
          <p:nvSpPr>
            <p:cNvPr id="120" name="矩形 10"/>
            <p:cNvSpPr/>
            <p:nvPr/>
          </p:nvSpPr>
          <p:spPr>
            <a:xfrm flipV="1">
              <a:off x="3346200" y="398520"/>
              <a:ext cx="4870440" cy="33840"/>
            </a:xfrm>
            <a:prstGeom prst="rect">
              <a:avLst/>
            </a:prstGeom>
            <a:solidFill>
              <a:srgbClr val="66a4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500" spc="-1" strike="noStrike">
                <a:solidFill>
                  <a:srgbClr val="66a49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1" name="TextBox 8"/>
            <p:cNvSpPr/>
            <p:nvPr/>
          </p:nvSpPr>
          <p:spPr>
            <a:xfrm>
              <a:off x="1046880" y="172440"/>
              <a:ext cx="2441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222" strike="noStrike">
                  <a:solidFill>
                    <a:srgbClr val="66a498"/>
                  </a:solidFill>
                  <a:latin typeface="微软雅黑"/>
                  <a:ea typeface="微软雅黑"/>
                </a:rPr>
                <a:t>认字识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4"/>
          <p:cNvSpPr/>
          <p:nvPr/>
        </p:nvSpPr>
        <p:spPr>
          <a:xfrm>
            <a:off x="1533600" y="1171440"/>
            <a:ext cx="1314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麋鹿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562480" y="1114200"/>
            <a:ext cx="4972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哺乳动物，毛淡褐色，性温顺，吃植物。原产我国，是一种稀有的珍贵兽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476720" y="1799640"/>
            <a:ext cx="1314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滋润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562480" y="1914120"/>
            <a:ext cx="3029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增添水分，使不干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33600" y="2485440"/>
            <a:ext cx="13712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松脂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562480" y="2314080"/>
            <a:ext cx="4800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针叶树的树干上渗出的胶状液体，主要由松香和松节油组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476720" y="3056760"/>
            <a:ext cx="13712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遗灰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562480" y="3114000"/>
            <a:ext cx="3429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遗留下来的痕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533600" y="3628080"/>
            <a:ext cx="13712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眷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391120" y="3628080"/>
            <a:ext cx="5086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（对自己喜爱的人或地方）深切地留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炫彩扁平2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fbf53"/>
      </a:accent1>
      <a:accent2>
        <a:srgbClr val="f17475"/>
      </a:accent2>
      <a:accent3>
        <a:srgbClr val="01b3c5"/>
      </a:accent3>
      <a:accent4>
        <a:srgbClr val="77448c"/>
      </a:accent4>
      <a:accent5>
        <a:srgbClr val="00af92"/>
      </a:accent5>
      <a:accent6>
        <a:srgbClr val="c65885"/>
      </a:accent6>
      <a:hlink>
        <a:srgbClr val="fcc79f"/>
      </a:hlink>
      <a:folHlink>
        <a:srgbClr val="869fb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ffbf53"/>
      </a:accent1>
      <a:accent2>
        <a:srgbClr val="f17475"/>
      </a:accent2>
      <a:accent3>
        <a:srgbClr val="01b3c5"/>
      </a:accent3>
      <a:accent4>
        <a:srgbClr val="77448c"/>
      </a:accent4>
      <a:accent5>
        <a:srgbClr val="00af92"/>
      </a:accent5>
      <a:accent6>
        <a:srgbClr val="c65885"/>
      </a:accent6>
      <a:hlink>
        <a:srgbClr val="fcc79f"/>
      </a:hlink>
      <a:folHlink>
        <a:srgbClr val="869fb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5</TotalTime>
  <Application>LibreOffice/7.4.7.2$Linux_X86_64 LibreOffice_project/40$Build-2</Application>
  <AppVersion>15.0000</AppVersion>
  <Words>1219</Words>
  <Paragraphs>1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09:06:39Z</dcterms:created>
  <dc:creator>第一PPT模板网-WWW.1PPT.COM</dc:creator>
  <dc:description>第一PPT模板网-WWW.1PPT.COM_x005F_x000d_
</dc:description>
  <dc:language>en-US</dc:language>
  <cp:lastModifiedBy>123</cp:lastModifiedBy>
  <dcterms:modified xsi:type="dcterms:W3CDTF">2020-12-29T01:56:45Z</dcterms:modified>
  <cp:revision>31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4</vt:r8>
  </property>
  <property fmtid="{D5CDD505-2E9C-101B-9397-08002B2CF9AE}" pid="3" name="PresentationFormat">
    <vt:lpwstr>全屏显示(16:9)</vt:lpwstr>
  </property>
  <property fmtid="{D5CDD505-2E9C-101B-9397-08002B2CF9AE}" pid="4" name="Slides">
    <vt:r8>25</vt:r8>
  </property>
</Properties>
</file>