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99C-F6E0-40B9-A8E1-1821DA7E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3BB-EA43-447A-A648-A672CFD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149-40AE-4520-B80A-4FC5AA07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A0A-9FE1-4516-A8F0-C73437C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66C-C998-44CE-8A44-C191D673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D21B-836B-4214-ACD9-7CA50D7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168-6AE3-423C-841C-52C3DBC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F87A-8D22-48EF-8CA3-949AC13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50EF-9C82-41D3-A91E-3AEA5223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79640" y="2707920"/>
            <a:ext cx="43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1DA7-00A3-4368-8732-D3F6AF8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24CC-F29A-44F0-BDC0-3896E27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116-DDE7-4A54-AE22-37061E1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795-D2C8-430B-809D-D85F5CC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972A-42D6-432F-8A46-5F31ACC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6E7-EA5B-4F87-8941-FBAC1B8D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8EC4-2F83-4044-A6DE-19D50482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8411-30A7-4F7B-8B3C-C98A119B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4F35-F812-4F1C-9C73-CDDD6411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BF90-2174-48A8-A91C-6DAF8B0E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2827-5DB2-4CD0-AD6E-FEA025D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AFBC-8B24-4A74-80D0-BA34B1F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0C46-61AF-4875-8E56-DE628722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D97-8989-4F52-8BE3-0978C33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979640" y="2707920"/>
            <a:ext cx="43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3DF7-DF20-4EEA-AFE2-4873E767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9AFF-32FA-47EE-8446-EA5CAA9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8994-0FC4-426B-BAF2-A088120E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B883-CE8A-4A67-87BD-BCA9E284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C7FC-6B9E-4D0F-A1BC-D4B8FD9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923F-DAD3-4441-9261-A866B74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5A12-244B-4890-9151-B60663D7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4BF-1441-4A47-99DD-D5D407B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F49-5E58-40BA-B8AE-A621E49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640" y="2707920"/>
            <a:ext cx="43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F66-9A21-4684-9A5C-706A7C4D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527-7C2B-4ABC-BC48-B037F8B7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138-CDB0-4C08-BC80-97CDDBF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9480"/>
            <a:ext cx="4392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6DA-A6C2-4C68-8DC6-ECC87165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rot="19911600">
            <a:off x="7669080" y="5444640"/>
            <a:ext cx="1257480" cy="1222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42284" t="71184" r="0" b="22772"/>
          <a:stretch/>
        </p:blipFill>
        <p:spPr>
          <a:xfrm>
            <a:off x="0" y="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-7130880" y="0"/>
            <a:ext cx="16274880" cy="981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6f6f6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BE33-9348-40C4-96A2-62DC15D9A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bc7d00">
                  <a:alpha val="90196"/>
                </a:srgbClr>
              </a:gs>
              <a:gs pos="100000">
                <a:srgbClr val="56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0" b="47710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21395400">
            <a:off x="-252000" y="3357360"/>
            <a:ext cx="9578880" cy="4827600"/>
          </a:xfrm>
          <a:custGeom>
            <a:avLst/>
            <a:gdLst>
              <a:gd name="textAreaLeft" fmla="*/ 26280 w 9578880"/>
              <a:gd name="textAreaRight" fmla="*/ 9552600 w 9578880"/>
              <a:gd name="textAreaTop" fmla="*/ 795600 h 4827600"/>
              <a:gd name="textAreaBottom" fmla="*/ 4032000 h 4827600"/>
            </a:gdLst>
            <a:ahLst/>
            <a:rect l="textAreaLeft" t="textAreaTop" r="textAreaRight" b="textAreaBottom"/>
            <a:pathLst>
              <a:path w="21600" h="21600">
                <a:moveTo>
                  <a:pt x="0" y="1780"/>
                </a:moveTo>
                <a:cubicBezTo>
                  <a:pt x="7170" y="-4526"/>
                  <a:pt x="14370" y="8086"/>
                  <a:pt x="21540" y="1780"/>
                </a:cubicBezTo>
                <a:lnTo>
                  <a:pt x="21600" y="19820"/>
                </a:lnTo>
                <a:cubicBezTo>
                  <a:pt x="14430" y="26126"/>
                  <a:pt x="7230" y="13514"/>
                  <a:pt x="60" y="1982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11004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4508280"/>
            <a:ext cx="6480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6800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20508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5964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3353-C2F1-403E-B712-5A023F526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79640" y="2133720"/>
            <a:ext cx="8064360" cy="2158920"/>
          </a:xfrm>
          <a:custGeom>
            <a:avLst/>
            <a:gdLst>
              <a:gd name="textAreaLeft" fmla="*/ 0 w 8064360"/>
              <a:gd name="textAreaRight" fmla="*/ 8064720 w 8064360"/>
              <a:gd name="textAreaTop" fmla="*/ 279720 h 2158920"/>
              <a:gd name="textAreaBottom" fmla="*/ 187920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19911600">
            <a:off x="7667640" y="5373360"/>
            <a:ext cx="1257120" cy="1222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1320-A30E-42C3-85D3-1BFC198326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89000"/>
            <a:ext cx="13177800" cy="2374920"/>
          </a:xfrm>
          <a:prstGeom prst="rect">
            <a:avLst/>
          </a:prstGeom>
          <a:gradFill rotWithShape="0">
            <a:gsLst>
              <a:gs pos="0">
                <a:srgbClr val="6f6f6f">
                  <a:alpha val="0"/>
                </a:srgbClr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bc7d00">
                  <a:alpha val="90196"/>
                </a:srgbClr>
              </a:gs>
              <a:gs pos="100000">
                <a:srgbClr val="56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8748720" cy="287280"/>
          </a:xfrm>
          <a:custGeom>
            <a:avLst/>
            <a:gdLst>
              <a:gd name="textAreaLeft" fmla="*/ 0 w 8748720"/>
              <a:gd name="textAreaRight" fmla="*/ 8749080 w 874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2" y="0"/>
                </a:lnTo>
                <a:lnTo>
                  <a:pt x="21600" y="10800"/>
                </a:lnTo>
                <a:lnTo>
                  <a:pt x="210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1979640" y="270792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5493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  <a:ea typeface="汉仪雁翎体简"/>
              </a:rPr>
              <a:t>The 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16360" y="5516280"/>
            <a:ext cx="568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我还在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763280" y="4508280"/>
            <a:ext cx="6480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5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1989000"/>
            <a:ext cx="3887640" cy="576360"/>
          </a:xfrm>
          <a:prstGeom prst="flowChartTerminator">
            <a:avLst/>
          </a:prstGeom>
          <a:gradFill rotWithShape="0">
            <a:gsLst>
              <a:gs pos="0">
                <a:srgbClr val="ffffd9"/>
              </a:gs>
              <a:gs pos="100000">
                <a:srgbClr val="ff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068640"/>
            <a:ext cx="3816360" cy="576360"/>
          </a:xfrm>
          <a:prstGeom prst="flowChartTerminator">
            <a:avLst/>
          </a:prstGeom>
          <a:gradFill rotWithShape="0">
            <a:gsLst>
              <a:gs pos="0">
                <a:srgbClr val="cc99ff"/>
              </a:gs>
              <a:gs pos="100000">
                <a:srgbClr val="ffffd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076640"/>
            <a:ext cx="3816360" cy="57780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1916280"/>
            <a:ext cx="4320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墨字體"/>
                <a:ea typeface="華康墨字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2924280"/>
            <a:ext cx="4320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墨字體"/>
                <a:ea typeface="華康墨字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005360"/>
            <a:ext cx="4320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墨字體"/>
                <a:ea typeface="華康墨字體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華康娃娃體"/>
                <a:ea typeface="華康娃娃體"/>
              </a:rPr>
              <a:t>Thank  You!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6:03:36Z</dcterms:created>
  <dc:creator>daisy</dc:creator>
  <dc:description/>
  <dc:language>en-US</dc:language>
  <cp:lastModifiedBy>keke</cp:lastModifiedBy>
  <dcterms:modified xsi:type="dcterms:W3CDTF">2010-09-08T07:07:48Z</dcterms:modified>
  <cp:revision>4</cp:revision>
  <dc:subject/>
  <dc:title>春天就要远去</dc:title>
</cp:coreProperties>
</file>