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隶书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D1008-72B3-4E88-8723-12BA19461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C6E96F-6387-401B-B026-34576D80FE6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2C57AE-033A-489D-B835-4515BF8964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2A11EE-B5CC-4F22-976C-8B160110A4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206197-F67C-4F34-AAFC-5818AAF0E9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71B-BAE7-4A58-8942-A21DB081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E2C-0200-4269-90C9-FC7D7BDB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477-C8F6-4B7E-B31F-9FA5157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9484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867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9484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867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B1B-0A83-4392-987C-08A2334C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92E5-0676-4BD2-B584-82B44541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FF5D-50EF-46EF-A0CA-60907566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7AF8-F156-4AA8-8B32-58B107C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E8E-690E-4973-84FB-7E8B0FB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8C0-C91D-4912-B976-2B55DAA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928280" y="4937760"/>
            <a:ext cx="71280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CB8-9EDD-4138-A93C-D6C2FF82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021-ABED-4219-B1C0-0D1A054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340-9D60-49F5-B83F-73F0C05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EE6B-DFB7-4E18-9589-7B1A545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3A68-2B7C-4AA4-A26A-2A5F0101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0B9-ED38-4134-B16D-A0BD8E1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85A-8114-4832-9853-FC2AFBB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99484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67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99484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67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5AFE-96B7-4A9E-8E5C-390219BB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17DD-F0D0-4B55-ADE3-21D4A44D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CCFA-B706-479E-968C-3A8C1D2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B40A-953D-4BE2-B974-7A0A9EF0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C79D-AB60-4B6A-B0D4-B413C97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FF11-4223-40A4-BD73-AA338FF6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74A-7CC8-4B6D-BA39-BF28AE7F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928280" y="4937760"/>
            <a:ext cx="71280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9C66-38C2-4E9D-85BF-41D12C4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1A83-275F-41BB-975F-DA5A4A0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81B4-2364-488F-B4C7-7F4656F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CE95-073D-46FB-B989-1579955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4D80-F559-4ED5-81AD-9ACA7AC0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9F84-FCB0-45BF-A786-E62CB358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9484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86760" y="71424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25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299484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486760" y="2825280"/>
            <a:ext cx="237312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B29A-07F6-42B1-AE46-70DBADD1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C6D-DDED-4CBC-80A1-98703FC1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81D-682D-4A75-9380-39C50CFA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928280" y="4937760"/>
            <a:ext cx="712800" cy="102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40B-41B7-4A2C-90C3-B4B22B4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AA9-D874-4B07-BE0E-9037108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79680" y="282528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96D-CE07-470D-BD11-34D0E57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9680" y="714240"/>
            <a:ext cx="359676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560" y="2825280"/>
            <a:ext cx="7370640" cy="19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A0F-9047-4FDE-B366-7D87EDF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b56813"/>
          </a:solidFill>
          <a:ln>
            <a:solidFill>
              <a:srgbClr val="854c0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隶书"/>
              <a:ea typeface="汉仪尚巍手书W"/>
            </a:endParaRPr>
          </a:p>
        </p:txBody>
      </p:sp>
      <p:grpSp>
        <p:nvGrpSpPr>
          <p:cNvPr id="1" name="组合 12"/>
          <p:cNvGrpSpPr/>
          <p:nvPr/>
        </p:nvGrpSpPr>
        <p:grpSpPr>
          <a:xfrm>
            <a:off x="-1153080" y="0"/>
            <a:ext cx="11450160" cy="5143320"/>
            <a:chOff x="-1153080" y="0"/>
            <a:chExt cx="11450160" cy="5143320"/>
          </a:xfrm>
        </p:grpSpPr>
        <p:pic>
          <p:nvPicPr>
            <p:cNvPr id="2" name="图片 1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wps稻壳儿佳誉设计原创链接：http://chn.docer.com/works?userid=219874625"/>
            <p:cNvSpPr/>
            <p:nvPr/>
          </p:nvSpPr>
          <p:spPr>
            <a:xfrm>
              <a:off x="152280" y="106200"/>
              <a:ext cx="8838720" cy="4930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c303d"/>
                </a:solidFill>
                <a:latin typeface="Calibri"/>
                <a:ea typeface="宋体"/>
              </a:endParaRPr>
            </a:p>
          </p:txBody>
        </p:sp>
        <p:sp>
          <p:nvSpPr>
            <p:cNvPr id="4" name="矩形 6"/>
            <p:cNvSpPr/>
            <p:nvPr/>
          </p:nvSpPr>
          <p:spPr>
            <a:xfrm>
              <a:off x="288360" y="228240"/>
              <a:ext cx="8566560" cy="4686840"/>
            </a:xfrm>
            <a:prstGeom prst="rect">
              <a:avLst/>
            </a:prstGeom>
            <a:noFill/>
            <a:ln w="28575">
              <a:solidFill>
                <a:srgbClr val="b5681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pic>
          <p:nvPicPr>
            <p:cNvPr id="5" name="wps稻壳儿佳誉设计原创链接：http://chn.docer.com/works?userid=219874625" descr=""/>
            <p:cNvPicPr/>
            <p:nvPr/>
          </p:nvPicPr>
          <p:blipFill>
            <a:blip r:embed="rId3"/>
            <a:stretch/>
          </p:blipFill>
          <p:spPr>
            <a:xfrm flipH="1">
              <a:off x="8992080" y="106560"/>
              <a:ext cx="1305000" cy="49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wps稻壳儿佳誉设计原创链接：http://chn.docer.com/works?userid=219874625" descr=""/>
            <p:cNvPicPr/>
            <p:nvPr/>
          </p:nvPicPr>
          <p:blipFill>
            <a:blip r:embed="rId4"/>
            <a:stretch/>
          </p:blipFill>
          <p:spPr>
            <a:xfrm>
              <a:off x="-1153080" y="130320"/>
              <a:ext cx="1305000" cy="49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1800" spc="148" strike="noStrike">
                <a:solidFill>
                  <a:schemeClr val="accent1"/>
                </a:solidFill>
                <a:latin typeface="(使用中文字体)"/>
                <a:ea typeface="隶书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6A4EE26C-F76C-4107-BC2A-23778FDD556B}" type="slidenum"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(使用中文字体)"/>
              </a:rPr>
              <a:t>Click to edit the outline text format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(使用中文字体)"/>
              </a:rPr>
              <a:t>Second Outline Level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(使用中文字体)"/>
              </a:rPr>
              <a:t>Third Outline Level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404040"/>
                </a:solidFill>
                <a:latin typeface="(使用中文字体)"/>
              </a:rPr>
              <a:t>Fourth Outline Level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404040"/>
                </a:solidFill>
                <a:latin typeface="(使用中文字体)"/>
              </a:rPr>
              <a:t>Fifth Outline Level</a:t>
            </a:r>
            <a:endParaRPr b="0" lang="en-US" sz="2000" spc="111" strike="noStrike">
              <a:solidFill>
                <a:srgbClr val="404040"/>
              </a:solidFill>
              <a:latin typeface="(使用中文字体)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404040"/>
                </a:solidFill>
                <a:latin typeface="(使用中文字体)"/>
              </a:rPr>
              <a:t>Sixth Outline Level</a:t>
            </a:r>
            <a:endParaRPr b="0" lang="en-US" sz="2000" spc="111" strike="noStrike">
              <a:solidFill>
                <a:srgbClr val="404040"/>
              </a:solidFill>
              <a:latin typeface="(使用中文字体)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404040"/>
                </a:solidFill>
                <a:latin typeface="(使用中文字体)"/>
              </a:rPr>
              <a:t>Seventh Outline Level</a:t>
            </a:r>
            <a:endParaRPr b="0" lang="en-US" sz="2000" spc="111" strike="noStrike">
              <a:solidFill>
                <a:srgbClr val="404040"/>
              </a:solidFill>
              <a:latin typeface="(使用中文字体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b56813"/>
          </a:solidFill>
          <a:ln>
            <a:solidFill>
              <a:srgbClr val="854c0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隶书"/>
              <a:ea typeface="汉仪尚巍手书W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-1153080" y="0"/>
            <a:ext cx="11450160" cy="5143320"/>
            <a:chOff x="-1153080" y="0"/>
            <a:chExt cx="11450160" cy="5143320"/>
          </a:xfrm>
        </p:grpSpPr>
        <p:pic>
          <p:nvPicPr>
            <p:cNvPr id="50" name="图片 1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832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ps稻壳儿佳誉设计原创链接：http://chn.docer.com/works?userid=219874625"/>
            <p:cNvSpPr/>
            <p:nvPr/>
          </p:nvSpPr>
          <p:spPr>
            <a:xfrm>
              <a:off x="152280" y="106200"/>
              <a:ext cx="8838720" cy="4930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c303d"/>
                </a:solidFill>
                <a:latin typeface="Calibri"/>
                <a:ea typeface="宋体"/>
              </a:endParaRPr>
            </a:p>
          </p:txBody>
        </p:sp>
        <p:sp>
          <p:nvSpPr>
            <p:cNvPr id="52" name="矩形 14"/>
            <p:cNvSpPr/>
            <p:nvPr/>
          </p:nvSpPr>
          <p:spPr>
            <a:xfrm>
              <a:off x="288360" y="228240"/>
              <a:ext cx="8566560" cy="4686840"/>
            </a:xfrm>
            <a:prstGeom prst="rect">
              <a:avLst/>
            </a:prstGeom>
            <a:noFill/>
            <a:ln w="28575">
              <a:solidFill>
                <a:srgbClr val="b5681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pic>
          <p:nvPicPr>
            <p:cNvPr id="53" name="wps稻壳儿佳誉设计原创链接：http://chn.docer.com/works?userid=219874625" descr=""/>
            <p:cNvPicPr/>
            <p:nvPr/>
          </p:nvPicPr>
          <p:blipFill>
            <a:blip r:embed="rId3"/>
            <a:stretch/>
          </p:blipFill>
          <p:spPr>
            <a:xfrm flipH="1">
              <a:off x="8992080" y="106560"/>
              <a:ext cx="1305000" cy="49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wps稻壳儿佳誉设计原创链接：http://chn.docer.com/works?userid=219874625" descr=""/>
            <p:cNvPicPr/>
            <p:nvPr/>
          </p:nvPicPr>
          <p:blipFill>
            <a:blip r:embed="rId4"/>
            <a:stretch/>
          </p:blipFill>
          <p:spPr>
            <a:xfrm>
              <a:off x="-1153080" y="130320"/>
              <a:ext cx="1305000" cy="49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560" y="332280"/>
            <a:ext cx="8138880" cy="33120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48" strike="noStrike">
                <a:solidFill>
                  <a:schemeClr val="accent1"/>
                </a:solidFill>
                <a:latin typeface="(使用中文字体)"/>
                <a:ea typeface="隶书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rmAutofit/>
          </a:bodyPr>
          <a:p>
            <a:pPr marL="171360" indent="-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单击此处编辑母版文本样式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1" marL="514440" indent="-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二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2" marL="857160" indent="-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三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3" marL="1200240" indent="-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四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4" marL="1542960" indent="-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五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835980A2-8D86-42B2-8AD9-A6EC40FB25D3}" type="slidenum"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b56813"/>
          </a:solidFill>
          <a:ln>
            <a:solidFill>
              <a:srgbClr val="854c0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隶书"/>
              <a:ea typeface="汉仪尚巍手书W"/>
            </a:endParaRPr>
          </a:p>
        </p:txBody>
      </p:sp>
      <p:grpSp>
        <p:nvGrpSpPr>
          <p:cNvPr id="97" name="组合 6"/>
          <p:cNvGrpSpPr/>
          <p:nvPr/>
        </p:nvGrpSpPr>
        <p:grpSpPr>
          <a:xfrm>
            <a:off x="-1153080" y="0"/>
            <a:ext cx="11450160" cy="5143320"/>
            <a:chOff x="-1153080" y="0"/>
            <a:chExt cx="11450160" cy="5143320"/>
          </a:xfrm>
        </p:grpSpPr>
        <p:pic>
          <p:nvPicPr>
            <p:cNvPr id="98" name="图片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832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ps稻壳儿佳誉设计原创链接：http://chn.docer.com/works?userid=219874625"/>
            <p:cNvSpPr/>
            <p:nvPr/>
          </p:nvSpPr>
          <p:spPr>
            <a:xfrm>
              <a:off x="152280" y="106200"/>
              <a:ext cx="8838720" cy="493092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c303d"/>
                </a:solidFill>
                <a:latin typeface="Calibri"/>
                <a:ea typeface="宋体"/>
              </a:endParaRPr>
            </a:p>
          </p:txBody>
        </p:sp>
        <p:sp>
          <p:nvSpPr>
            <p:cNvPr id="100" name="矩形 12"/>
            <p:cNvSpPr/>
            <p:nvPr/>
          </p:nvSpPr>
          <p:spPr>
            <a:xfrm>
              <a:off x="288360" y="228240"/>
              <a:ext cx="8566560" cy="4686840"/>
            </a:xfrm>
            <a:prstGeom prst="rect">
              <a:avLst/>
            </a:prstGeom>
            <a:noFill/>
            <a:ln w="28575">
              <a:solidFill>
                <a:srgbClr val="b5681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Calibri"/>
                <a:ea typeface="微软雅黑"/>
              </a:endParaRPr>
            </a:p>
          </p:txBody>
        </p:sp>
        <p:pic>
          <p:nvPicPr>
            <p:cNvPr id="101" name="wps稻壳儿佳誉设计原创链接：http://chn.docer.com/works?userid=219874625" descr=""/>
            <p:cNvPicPr/>
            <p:nvPr/>
          </p:nvPicPr>
          <p:blipFill>
            <a:blip r:embed="rId3"/>
            <a:stretch/>
          </p:blipFill>
          <p:spPr>
            <a:xfrm flipH="1">
              <a:off x="8992080" y="106560"/>
              <a:ext cx="1305000" cy="49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wps稻壳儿佳誉设计原创链接：http://chn.docer.com/works?userid=219874625" descr=""/>
            <p:cNvPicPr/>
            <p:nvPr/>
          </p:nvPicPr>
          <p:blipFill>
            <a:blip r:embed="rId4"/>
            <a:stretch/>
          </p:blipFill>
          <p:spPr>
            <a:xfrm>
              <a:off x="-1153080" y="130320"/>
              <a:ext cx="1305000" cy="49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8280" y="714240"/>
            <a:ext cx="712800" cy="4041360"/>
          </a:xfrm>
          <a:prstGeom prst="rect">
            <a:avLst/>
          </a:prstGeom>
          <a:noFill/>
          <a:ln w="0">
            <a:noFill/>
          </a:ln>
        </p:spPr>
        <p:txBody>
          <a:bodyPr lIns="28440" rIns="28440" tIns="57240" bIns="76320" anchor="ctr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48" strike="noStrike">
                <a:solidFill>
                  <a:schemeClr val="accent1"/>
                </a:solidFill>
                <a:latin typeface="(使用中文字体)"/>
                <a:ea typeface="隶书"/>
              </a:rPr>
              <a:t>单击此处编辑母版标题样式</a:t>
            </a:r>
            <a:endParaRPr b="0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02560" y="714240"/>
            <a:ext cx="7370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61920" bIns="76320" anchor="t">
            <a:noAutofit/>
          </a:bodyPr>
          <a:p>
            <a:pPr marL="1713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单击此处编辑母版文本样式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1" marL="51444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二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2" marL="8571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三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3" marL="120024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四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lvl="4" marL="1542960">
              <a:lnSpc>
                <a:spcPct val="120000"/>
              </a:lnSpc>
              <a:spcAft>
                <a:spcPts val="751"/>
              </a:spcAft>
              <a:buClr>
                <a:srgbClr val="404040"/>
              </a:buClr>
              <a:buFont typeface="Arial"/>
              <a:buChar char="•"/>
              <a:tabLst>
                <a:tab algn="l" pos="1207440"/>
              </a:tabLst>
            </a:pPr>
            <a:r>
              <a:rPr b="0" lang="zh-CN" sz="1200" spc="111" strike="noStrike">
                <a:solidFill>
                  <a:srgbClr val="404040"/>
                </a:solidFill>
                <a:latin typeface="(使用中文字体)"/>
                <a:ea typeface="隶书"/>
              </a:rPr>
              <a:t>第五级</a:t>
            </a: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>
              <a:lnSpc>
                <a:spcPct val="12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20000"/>
              </a:lnSpc>
              <a:buNone/>
              <a:def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defRPr>
            </a:lvl1pPr>
          </a:lstStyle>
          <a:p>
            <a:pPr indent="0" algn="r">
              <a:lnSpc>
                <a:spcPct val="120000"/>
              </a:lnSpc>
              <a:buNone/>
            </a:pPr>
            <a:fld id="{5F4404CF-761D-42FA-A4C3-0E981A268974}" type="slidenum">
              <a:rPr b="0" lang="en-US" sz="900" spc="-1" strike="noStrike">
                <a:solidFill>
                  <a:srgbClr val="8b8b8b"/>
                </a:solidFill>
                <a:latin typeface="隶书"/>
                <a:ea typeface="汉仪尚巍手书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"/>
          <p:cNvSpPr/>
          <p:nvPr/>
        </p:nvSpPr>
        <p:spPr>
          <a:xfrm flipH="1" flipV="1" rot="10800000">
            <a:off x="1887480" y="1267920"/>
            <a:ext cx="1177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七年级上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0" y="333360"/>
            <a:ext cx="914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再塑生命的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5833800" y="1095120"/>
            <a:ext cx="158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海伦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凯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" descr=""/>
          <p:cNvPicPr/>
          <p:nvPr/>
        </p:nvPicPr>
        <p:blipFill>
          <a:blip r:embed="rId1"/>
          <a:stretch/>
        </p:blipFill>
        <p:spPr>
          <a:xfrm>
            <a:off x="1753560" y="1564200"/>
            <a:ext cx="5303160" cy="2864160"/>
          </a:xfrm>
          <a:prstGeom prst="rect">
            <a:avLst/>
          </a:prstGeom>
          <a:ln w="0">
            <a:noFill/>
          </a:ln>
        </p:spPr>
      </p:pic>
      <p:sp>
        <p:nvSpPr>
          <p:cNvPr id="154" name="矩形 6"/>
          <p:cNvSpPr/>
          <p:nvPr/>
        </p:nvSpPr>
        <p:spPr>
          <a:xfrm>
            <a:off x="315000" y="4468320"/>
            <a:ext cx="85420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5" dur="1" fill="hold"/>
                                        <p:tgtEl>
                                          <p:spTgt spid="15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1"/>
          <p:cNvSpPr/>
          <p:nvPr/>
        </p:nvSpPr>
        <p:spPr>
          <a:xfrm>
            <a:off x="2784240" y="510840"/>
            <a:ext cx="2485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作者为什么说莎莉文老师是“再塑生命的人”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487800" y="1001160"/>
            <a:ext cx="80355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文中“再塑生命”是指“爱的光明照到了我的身上”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本来在我的那个寂静而又黑暗的世界里，根本就不会有温柔和同情，但是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在莎莉文老师的教育下“我”的灵魂被唤醒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再次拥有“光明、希望、快乐和自由”、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这里的光明一词用比喻义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。正如作者自己所说的“她就是那个来对我启示世间的真理、给我深切的爱的人”，从这个意义上说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莎莉文老师是“再塑生命的人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37" dur="1" fill="hold"/>
                                        <p:tgtEl>
                                          <p:spTgt spid="20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2297520" cy="69732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t">
            <a:noAutofit/>
          </a:bodyPr>
          <a:p>
            <a:pPr indent="0">
              <a:lnSpc>
                <a:spcPct val="120000"/>
              </a:lnSpc>
              <a:buNone/>
            </a:pPr>
            <a:r>
              <a:rPr b="1" lang="zh-CN" sz="1800" spc="148" strike="noStrike">
                <a:solidFill>
                  <a:schemeClr val="accent1"/>
                </a:solidFill>
                <a:latin typeface="(使用中文字体)"/>
                <a:ea typeface="隶书"/>
              </a:rPr>
              <a:t>教学目标：</a:t>
            </a:r>
            <a:endParaRPr b="0" lang="en-US" sz="1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560" y="714240"/>
            <a:ext cx="8138880" cy="4041360"/>
          </a:xfrm>
          <a:prstGeom prst="rect">
            <a:avLst/>
          </a:prstGeom>
          <a:noFill/>
          <a:ln w="0">
            <a:noFill/>
          </a:ln>
        </p:spPr>
        <p:txBody>
          <a:bodyPr lIns="76320" rIns="61920" tIns="0" bIns="0" anchor="t">
            <a:normAutofit/>
          </a:bodyPr>
          <a:p>
            <a:pPr indent="0">
              <a:lnSpc>
                <a:spcPct val="25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indent="0">
              <a:lnSpc>
                <a:spcPct val="25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200" spc="111" strike="noStrike">
              <a:solidFill>
                <a:srgbClr val="404040"/>
              </a:solidFill>
              <a:latin typeface="(使用中文字体)"/>
            </a:endParaRPr>
          </a:p>
          <a:p>
            <a:pPr indent="0">
              <a:lnSpc>
                <a:spcPct val="25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400" spc="111" strike="noStrike">
              <a:solidFill>
                <a:srgbClr val="404040"/>
              </a:solidFill>
              <a:latin typeface="(使用中文字体)"/>
            </a:endParaRPr>
          </a:p>
          <a:p>
            <a:pPr indent="0">
              <a:lnSpc>
                <a:spcPct val="15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400" spc="111" strike="noStrike">
              <a:solidFill>
                <a:srgbClr val="404040"/>
              </a:solidFill>
              <a:latin typeface="(使用中文字体)"/>
            </a:endParaRPr>
          </a:p>
          <a:p>
            <a:pPr indent="0">
              <a:lnSpc>
                <a:spcPct val="150000"/>
              </a:lnSpc>
              <a:spcAft>
                <a:spcPts val="751"/>
              </a:spcAft>
              <a:buNone/>
              <a:tabLst>
                <a:tab algn="l" pos="0"/>
              </a:tabLst>
            </a:pPr>
            <a:endParaRPr b="0" lang="en-US" sz="1400" spc="111" strike="noStrike">
              <a:solidFill>
                <a:srgbClr val="404040"/>
              </a:solidFill>
              <a:latin typeface="(使用中文字体)"/>
            </a:endParaRPr>
          </a:p>
        </p:txBody>
      </p:sp>
      <p:sp>
        <p:nvSpPr>
          <p:cNvPr id="157" name="任意多边形 49"/>
          <p:cNvSpPr/>
          <p:nvPr/>
        </p:nvSpPr>
        <p:spPr>
          <a:xfrm>
            <a:off x="691560" y="1191960"/>
            <a:ext cx="439200" cy="400320"/>
          </a:xfrm>
          <a:custGeom>
            <a:avLst/>
            <a:gdLst>
              <a:gd name="textAreaLeft" fmla="*/ 0 w 439200"/>
              <a:gd name="textAreaRight" fmla="*/ 439560 w 439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隶书"/>
              <a:ea typeface="汉仪尚巍手书W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1236240" y="1108800"/>
            <a:ext cx="6245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理清文章思路，整体把握全文结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8"/>
          <p:cNvSpPr/>
          <p:nvPr/>
        </p:nvSpPr>
        <p:spPr>
          <a:xfrm>
            <a:off x="691200" y="2113560"/>
            <a:ext cx="439560" cy="458640"/>
          </a:xfrm>
          <a:custGeom>
            <a:avLst/>
            <a:gdLst>
              <a:gd name="textAreaLeft" fmla="*/ 0 w 439560"/>
              <a:gd name="textAreaRight" fmla="*/ 439920 w 4395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隶书"/>
              <a:ea typeface="汉仪尚巍手书W"/>
            </a:endParaRPr>
          </a:p>
        </p:txBody>
      </p:sp>
      <p:sp>
        <p:nvSpPr>
          <p:cNvPr id="160" name="文本框 5"/>
          <p:cNvSpPr/>
          <p:nvPr/>
        </p:nvSpPr>
        <p:spPr>
          <a:xfrm>
            <a:off x="1301040" y="1975320"/>
            <a:ext cx="594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认真体会作者对莉莎老师敬爱和感激的情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1236240" y="3257640"/>
            <a:ext cx="6012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体会作者热爱生活，对待生命的积极态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9"/>
          <p:cNvSpPr/>
          <p:nvPr/>
        </p:nvSpPr>
        <p:spPr>
          <a:xfrm>
            <a:off x="691560" y="3368880"/>
            <a:ext cx="439200" cy="406800"/>
          </a:xfrm>
          <a:custGeom>
            <a:avLst/>
            <a:gdLst>
              <a:gd name="textAreaLeft" fmla="*/ 0 w 439200"/>
              <a:gd name="textAreaRight" fmla="*/ 439560 w 439200"/>
              <a:gd name="textAreaTop" fmla="*/ 0 h 406800"/>
              <a:gd name="textAreaBottom" fmla="*/ 407160 h 406800"/>
            </a:gdLst>
            <a:ahLst/>
            <a:rect l="textAreaLeft" t="textAreaTop" r="textAreaRight" b="textAreaBottom"/>
            <a:pathLst>
              <a:path w="800580" h="755406">
                <a:moveTo>
                  <a:pt x="697056" y="58976"/>
                </a:moveTo>
                <a:cubicBezTo>
                  <a:pt x="673147" y="58976"/>
                  <a:pt x="653765" y="76392"/>
                  <a:pt x="653765" y="97876"/>
                </a:cubicBezTo>
                <a:cubicBezTo>
                  <a:pt x="653765" y="119360"/>
                  <a:pt x="673147" y="136776"/>
                  <a:pt x="697056" y="136776"/>
                </a:cubicBezTo>
                <a:cubicBezTo>
                  <a:pt x="720965" y="136776"/>
                  <a:pt x="740347" y="119360"/>
                  <a:pt x="740347" y="97876"/>
                </a:cubicBezTo>
                <a:cubicBezTo>
                  <a:pt x="740347" y="76392"/>
                  <a:pt x="720965" y="58976"/>
                  <a:pt x="697056" y="58976"/>
                </a:cubicBezTo>
                <a:close/>
                <a:moveTo>
                  <a:pt x="400291" y="0"/>
                </a:moveTo>
                <a:lnTo>
                  <a:pt x="800580" y="0"/>
                </a:lnTo>
                <a:lnTo>
                  <a:pt x="800580" y="377703"/>
                </a:lnTo>
                <a:cubicBezTo>
                  <a:pt x="800580" y="586303"/>
                  <a:pt x="621364" y="755406"/>
                  <a:pt x="400290" y="755406"/>
                </a:cubicBezTo>
                <a:cubicBezTo>
                  <a:pt x="179216" y="755406"/>
                  <a:pt x="0" y="586303"/>
                  <a:pt x="0" y="377703"/>
                </a:cubicBezTo>
                <a:lnTo>
                  <a:pt x="1" y="377703"/>
                </a:lnTo>
                <a:cubicBezTo>
                  <a:pt x="1" y="169103"/>
                  <a:pt x="179217" y="0"/>
                  <a:pt x="400291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隶书"/>
              <a:ea typeface="汉仪尚巍手书W"/>
            </a:endParaRPr>
          </a:p>
        </p:txBody>
      </p:sp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6959520" y="-1080"/>
            <a:ext cx="21751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连接符 21"/>
          <p:cNvCxnSpPr/>
          <p:nvPr/>
        </p:nvCxnSpPr>
        <p:spPr>
          <a:xfrm>
            <a:off x="-720" y="756360"/>
            <a:ext cx="993960" cy="360"/>
          </a:xfrm>
          <a:prstGeom prst="straightConnector1">
            <a:avLst/>
          </a:prstGeom>
          <a:ln w="38100">
            <a:solidFill>
              <a:srgbClr val="b56813"/>
            </a:solidFill>
          </a:ln>
        </p:spPr>
      </p:cxnSp>
      <p:cxnSp>
        <p:nvCxnSpPr>
          <p:cNvPr id="165" name="直接连接符 22"/>
          <p:cNvCxnSpPr/>
          <p:nvPr/>
        </p:nvCxnSpPr>
        <p:spPr>
          <a:xfrm>
            <a:off x="1719720" y="115200"/>
            <a:ext cx="7421760" cy="360"/>
          </a:xfrm>
          <a:prstGeom prst="straightConnector1">
            <a:avLst/>
          </a:prstGeom>
          <a:ln w="38100">
            <a:solidFill>
              <a:srgbClr val="b56813"/>
            </a:solidFill>
          </a:ln>
        </p:spPr>
      </p:cxnSp>
      <p:sp>
        <p:nvSpPr>
          <p:cNvPr id="166" name="文本框 23"/>
          <p:cNvSpPr/>
          <p:nvPr/>
        </p:nvSpPr>
        <p:spPr>
          <a:xfrm>
            <a:off x="406080" y="115560"/>
            <a:ext cx="2489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作者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"/>
          <p:cNvSpPr/>
          <p:nvPr/>
        </p:nvSpPr>
        <p:spPr>
          <a:xfrm>
            <a:off x="316440" y="923760"/>
            <a:ext cx="52228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海伦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凯勒（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Helen Keller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880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年－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968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年），美国著名的女作家、教育家、慈善家、社会活动家。在出生的第十九个月时被夺去视力和听力。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887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年与莎莉文老师相遇。后考入哈佛大学。代表作品有：《假如给我三天光明》《我的人生故事》《石墙故事》。她致力于为残疾人造福，建立了许多慈善机构，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964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年荣获“总统自由勋章”，次年入选美国《时代周刊》评选的“二十世纪美国十大偶像”之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5675040" y="324360"/>
            <a:ext cx="3008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4"/>
          <p:cNvSpPr/>
          <p:nvPr/>
        </p:nvSpPr>
        <p:spPr>
          <a:xfrm>
            <a:off x="801720" y="345600"/>
            <a:ext cx="681192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重点字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51120" y="1050120"/>
            <a:ext cx="7241040" cy="151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7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搓捻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    )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花团锦簇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)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怦怦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 ) 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美不胜收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  )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疲倦不堪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 )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小心翼翼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）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争执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(    )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绽开（     ）  抚弄（   ）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7335720" y="3607920"/>
            <a:ext cx="650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fǔ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24" descr="1274789792_1774334624_看图王"/>
          <p:cNvPicPr/>
          <p:nvPr/>
        </p:nvPicPr>
        <p:blipFill>
          <a:blip r:embed="rId1"/>
          <a:stretch/>
        </p:blipFill>
        <p:spPr>
          <a:xfrm flipH="1">
            <a:off x="7824600" y="0"/>
            <a:ext cx="1446480" cy="353520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0"/>
          <p:cNvSpPr/>
          <p:nvPr/>
        </p:nvSpPr>
        <p:spPr>
          <a:xfrm>
            <a:off x="1874520" y="1290960"/>
            <a:ext cx="200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cuō niǎ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6388920" y="1337760"/>
            <a:ext cx="792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c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1996560" y="2062800"/>
            <a:ext cx="1050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pē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849920" y="3607920"/>
            <a:ext cx="6339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zhà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2241360" y="3607920"/>
            <a:ext cx="4237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zh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5"/>
          <p:cNvSpPr/>
          <p:nvPr/>
        </p:nvSpPr>
        <p:spPr>
          <a:xfrm>
            <a:off x="2710800" y="2841480"/>
            <a:ext cx="108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ju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6"/>
          <p:cNvSpPr/>
          <p:nvPr/>
        </p:nvSpPr>
        <p:spPr>
          <a:xfrm>
            <a:off x="6162840" y="2108880"/>
            <a:ext cx="1244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shè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7"/>
          <p:cNvSpPr/>
          <p:nvPr/>
        </p:nvSpPr>
        <p:spPr>
          <a:xfrm>
            <a:off x="6244560" y="2841480"/>
            <a:ext cx="792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y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4"/>
          <p:cNvSpPr/>
          <p:nvPr/>
        </p:nvSpPr>
        <p:spPr>
          <a:xfrm>
            <a:off x="492840" y="88200"/>
            <a:ext cx="282132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词义解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"/>
          <p:cNvSpPr/>
          <p:nvPr/>
        </p:nvSpPr>
        <p:spPr>
          <a:xfrm>
            <a:off x="399960" y="793080"/>
            <a:ext cx="195084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小心翼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不求甚解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美不胜收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恍然大悟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5"/>
          <p:cNvSpPr/>
          <p:nvPr/>
        </p:nvSpPr>
        <p:spPr>
          <a:xfrm>
            <a:off x="2010240" y="897840"/>
            <a:ext cx="66279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原形容严肃虔敬的样子，现用来形容举动十分谨慎，丝毫不敢疏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"/>
          <p:cNvSpPr/>
          <p:nvPr/>
        </p:nvSpPr>
        <p:spPr>
          <a:xfrm>
            <a:off x="4563360" y="2057400"/>
            <a:ext cx="15696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语出晋陶渊明《五柳先生传》：“好读书，不求甚解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每有会意，便欣然忘食。”现在多指读书学习只求懂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大概，不求深刻了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9"/>
          <p:cNvSpPr/>
          <p:nvPr/>
        </p:nvSpPr>
        <p:spPr>
          <a:xfrm>
            <a:off x="4430520" y="3310560"/>
            <a:ext cx="4906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美好的东西太多，一时接受不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2073600" y="4084920"/>
            <a:ext cx="63306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忽然间明白过来。恍然，形容忽然醒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22" dur="1" fill="hold"/>
                                        <p:tgtEl>
                                          <p:spTgt spid="18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369720" y="1567800"/>
            <a:ext cx="36406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第一部分（第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段）：综述莎莉文老师在“我”的一身中所起的重要作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第二部分（第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2~13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段）：写莎莉文老师对“我”的教育情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左大括号 3"/>
          <p:cNvSpPr/>
          <p:nvPr/>
        </p:nvSpPr>
        <p:spPr>
          <a:xfrm>
            <a:off x="4010400" y="2576880"/>
            <a:ext cx="72000" cy="130608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1">
            <a:schemeClr val="dk1"/>
          </a:lnRef>
          <a:fillRef idx="0">
            <a:schemeClr val="dk1"/>
          </a:fillRef>
          <a:effectRef idx="0">
            <a:schemeClr val="dk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隶书"/>
              <a:ea typeface="汉仪尚巍手书W"/>
            </a:endParaRPr>
          </a:p>
        </p:txBody>
      </p:sp>
      <p:sp>
        <p:nvSpPr>
          <p:cNvPr id="189" name="文本框 4"/>
          <p:cNvSpPr/>
          <p:nvPr/>
        </p:nvSpPr>
        <p:spPr>
          <a:xfrm>
            <a:off x="4082760" y="2337840"/>
            <a:ext cx="4515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第一层（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2~5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段）：写莎莉文老师和“我”的初步接触，初步写莎莉文老师的教育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"/>
          <p:cNvSpPr/>
          <p:nvPr/>
        </p:nvSpPr>
        <p:spPr>
          <a:xfrm>
            <a:off x="4082760" y="3453120"/>
            <a:ext cx="4113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第二层（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6~13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段）：通过写莎莉文老师和“我”的日常生活，体现莎莉文老师的教育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可选过程 6"/>
          <p:cNvSpPr/>
          <p:nvPr/>
        </p:nvSpPr>
        <p:spPr>
          <a:xfrm>
            <a:off x="424800" y="210960"/>
            <a:ext cx="2170080" cy="771120"/>
          </a:xfrm>
          <a:prstGeom prst="flowChartAlternateProcess">
            <a:avLst/>
          </a:prstGeom>
          <a:gradFill rotWithShape="0">
            <a:gsLst>
              <a:gs pos="0">
                <a:srgbClr val="deb19d"/>
              </a:gs>
              <a:gs pos="100000">
                <a:srgbClr val="d4a690"/>
              </a:gs>
            </a:gsLst>
            <a:lin ang="5400000"/>
          </a:gradFill>
          <a:ln>
            <a:noFill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隶书"/>
              <a:ea typeface="汉仪尚巍手书W"/>
            </a:endParaRPr>
          </a:p>
        </p:txBody>
      </p:sp>
      <p:sp>
        <p:nvSpPr>
          <p:cNvPr id="192" name="文本框 7"/>
          <p:cNvSpPr/>
          <p:nvPr/>
        </p:nvSpPr>
        <p:spPr>
          <a:xfrm>
            <a:off x="424800" y="285120"/>
            <a:ext cx="2232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整体感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" descr=""/>
          <p:cNvPicPr/>
          <p:nvPr/>
        </p:nvPicPr>
        <p:blipFill>
          <a:blip r:embed="rId1"/>
          <a:stretch/>
        </p:blipFill>
        <p:spPr>
          <a:xfrm>
            <a:off x="6669000" y="-7920"/>
            <a:ext cx="2469960" cy="22255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8" descr=""/>
          <p:cNvPicPr/>
          <p:nvPr/>
        </p:nvPicPr>
        <p:blipFill>
          <a:blip r:embed="rId2"/>
          <a:stretch/>
        </p:blipFill>
        <p:spPr>
          <a:xfrm>
            <a:off x="5943960" y="828360"/>
            <a:ext cx="539640" cy="55332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7" descr=""/>
          <p:cNvPicPr/>
          <p:nvPr/>
        </p:nvPicPr>
        <p:blipFill>
          <a:blip r:embed="rId3"/>
          <a:stretch/>
        </p:blipFill>
        <p:spPr>
          <a:xfrm>
            <a:off x="4762440" y="1657080"/>
            <a:ext cx="242640" cy="2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9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2"/>
          <p:cNvSpPr/>
          <p:nvPr/>
        </p:nvSpPr>
        <p:spPr>
          <a:xfrm>
            <a:off x="601200" y="507240"/>
            <a:ext cx="6580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莎莉文老师是怎样教育“我”认识具体事物的？试举例说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533880" y="1618560"/>
            <a:ext cx="737064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文中写莎莉文教海伦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凯勒认识的事物很繁多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如莎莉文作为陌生人第一次见到海伦就搂抱她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有意识地给她布娃娃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并教她拼写“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doll”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。在海伦无法区别“杯”和“水”的时候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就让海伦一只手接触水流，在海伦的另一只手上拼写“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water”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使海伦领悟到“水”这个字指的是手上流过的清凉而奇妙的东西</a:t>
            </a: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从此海伦开始大量地认识事物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6" descr=""/>
          <p:cNvPicPr/>
          <p:nvPr/>
        </p:nvPicPr>
        <p:blipFill>
          <a:blip r:embed="rId1"/>
          <a:stretch/>
        </p:blipFill>
        <p:spPr>
          <a:xfrm>
            <a:off x="7342200" y="-1440"/>
            <a:ext cx="18216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717120" y="670680"/>
            <a:ext cx="59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概括莎莉文和海伦的性格特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"/>
          <p:cNvSpPr/>
          <p:nvPr/>
        </p:nvSpPr>
        <p:spPr>
          <a:xfrm>
            <a:off x="625680" y="1333080"/>
            <a:ext cx="5949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莎莉文老师：是一位极富爱心和耐心，而且善于抓住教育时机，对海伦进行因势利导、循循善诱的出色的教育艺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5"/>
          <p:cNvSpPr/>
          <p:nvPr/>
        </p:nvSpPr>
        <p:spPr>
          <a:xfrm>
            <a:off x="625680" y="2639520"/>
            <a:ext cx="6161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海伦：有毅力，身残志坚，自强不息，不屈不挠，聪明好学，悟性极高，情感丰富，热爱生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A_图片 15" descr=""/>
          <p:cNvPicPr/>
          <p:nvPr/>
        </p:nvPicPr>
        <p:blipFill>
          <a:blip r:embed="rId1"/>
          <a:stretch/>
        </p:blipFill>
        <p:spPr>
          <a:xfrm>
            <a:off x="6086880" y="1504800"/>
            <a:ext cx="362628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3"/>
          <p:cNvSpPr/>
          <p:nvPr/>
        </p:nvSpPr>
        <p:spPr>
          <a:xfrm>
            <a:off x="1321200" y="717840"/>
            <a:ext cx="5790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作者对莎莉文老师的感情是怎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1231560" y="1290960"/>
            <a:ext cx="64648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隶书"/>
                <a:ea typeface="汉仪尚巍手书W"/>
              </a:rPr>
              <a:t>是感激、爱戴、感恩。莎莉文用她的爱心和耐心，开启了“我”的智慧之门，打破了“我”心中的情感冷漠，她引导“我”认识了这个世界，甚至改变了“我”的一生，“我”对她更多的是爱戴和感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6" descr=""/>
          <p:cNvPicPr/>
          <p:nvPr/>
        </p:nvPicPr>
        <p:blipFill>
          <a:blip r:embed="rId1"/>
          <a:stretch/>
        </p:blipFill>
        <p:spPr>
          <a:xfrm>
            <a:off x="7324560" y="-3960"/>
            <a:ext cx="1821600" cy="1881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60" descr=""/>
          <p:cNvPicPr/>
          <p:nvPr/>
        </p:nvPicPr>
        <p:blipFill>
          <a:blip r:embed="rId2"/>
          <a:stretch/>
        </p:blipFill>
        <p:spPr>
          <a:xfrm>
            <a:off x="-1800" y="3234240"/>
            <a:ext cx="2414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自定义 13">
      <a:dk1>
        <a:srgbClr val="000000"/>
      </a:dk1>
      <a:lt1>
        <a:srgbClr val="ffffff"/>
      </a:lt1>
      <a:dk2>
        <a:srgbClr val="324a34"/>
      </a:dk2>
      <a:lt2>
        <a:srgbClr val="f0f5ee"/>
      </a:lt2>
      <a:accent1>
        <a:srgbClr val="b56813"/>
      </a:accent1>
      <a:accent2>
        <a:srgbClr val="a7783a"/>
      </a:accent2>
      <a:accent3>
        <a:srgbClr val="9c8c54"/>
      </a:accent3>
      <a:accent4>
        <a:srgbClr val="8d9e6c"/>
      </a:accent4>
      <a:accent5>
        <a:srgbClr val="76ae87"/>
      </a:accent5>
      <a:accent6>
        <a:srgbClr val="4fbf9f"/>
      </a:accent6>
      <a:hlink>
        <a:srgbClr val="495abd"/>
      </a:hlink>
      <a:folHlink>
        <a:srgbClr val="725e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自定义 13">
      <a:dk1>
        <a:srgbClr val="000000"/>
      </a:dk1>
      <a:lt1>
        <a:srgbClr val="ffffff"/>
      </a:lt1>
      <a:dk2>
        <a:srgbClr val="324a34"/>
      </a:dk2>
      <a:lt2>
        <a:srgbClr val="f0f5ee"/>
      </a:lt2>
      <a:accent1>
        <a:srgbClr val="b56813"/>
      </a:accent1>
      <a:accent2>
        <a:srgbClr val="a7783a"/>
      </a:accent2>
      <a:accent3>
        <a:srgbClr val="9c8c54"/>
      </a:accent3>
      <a:accent4>
        <a:srgbClr val="8d9e6c"/>
      </a:accent4>
      <a:accent5>
        <a:srgbClr val="76ae87"/>
      </a:accent5>
      <a:accent6>
        <a:srgbClr val="4fbf9f"/>
      </a:accent6>
      <a:hlink>
        <a:srgbClr val="495abd"/>
      </a:hlink>
      <a:folHlink>
        <a:srgbClr val="725e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自定义 13">
      <a:dk1>
        <a:srgbClr val="000000"/>
      </a:dk1>
      <a:lt1>
        <a:srgbClr val="ffffff"/>
      </a:lt1>
      <a:dk2>
        <a:srgbClr val="324a34"/>
      </a:dk2>
      <a:lt2>
        <a:srgbClr val="f0f5ee"/>
      </a:lt2>
      <a:accent1>
        <a:srgbClr val="b56813"/>
      </a:accent1>
      <a:accent2>
        <a:srgbClr val="a7783a"/>
      </a:accent2>
      <a:accent3>
        <a:srgbClr val="9c8c54"/>
      </a:accent3>
      <a:accent4>
        <a:srgbClr val="8d9e6c"/>
      </a:accent4>
      <a:accent5>
        <a:srgbClr val="76ae87"/>
      </a:accent5>
      <a:accent6>
        <a:srgbClr val="4fbf9f"/>
      </a:accent6>
      <a:hlink>
        <a:srgbClr val="495abd"/>
      </a:hlink>
      <a:folHlink>
        <a:srgbClr val="725e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4a34"/>
      </a:dk2>
      <a:lt2>
        <a:srgbClr val="f0f5ee"/>
      </a:lt2>
      <a:accent1>
        <a:srgbClr val="b56813"/>
      </a:accent1>
      <a:accent2>
        <a:srgbClr val="a7783a"/>
      </a:accent2>
      <a:accent3>
        <a:srgbClr val="9c8c54"/>
      </a:accent3>
      <a:accent4>
        <a:srgbClr val="8d9e6c"/>
      </a:accent4>
      <a:accent5>
        <a:srgbClr val="76ae87"/>
      </a:accent5>
      <a:accent6>
        <a:srgbClr val="4fbf9f"/>
      </a:accent6>
      <a:hlink>
        <a:srgbClr val="495abd"/>
      </a:hlink>
      <a:folHlink>
        <a:srgbClr val="725e8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Words>1253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7:05:00Z</dcterms:created>
  <dc:creator>第一PPT模板网-WWW.1PPT.COM</dc:creator>
  <dc:description>http://www.ypppt.com/</dc:description>
  <cp:keywords>第一PPT模板网-WWW.1PPT.COM</cp:keywords>
  <dc:language>en-US</dc:language>
  <cp:lastModifiedBy>123</cp:lastModifiedBy>
  <dcterms:modified xsi:type="dcterms:W3CDTF">2020-04-14T08:22:14Z</dcterms:modified>
  <cp:revision>4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76</vt:lpwstr>
  </property>
  <property fmtid="{D5CDD505-2E9C-101B-9397-08002B2CF9AE}" pid="3" name="Notes">
    <vt:r8>4</vt:r8>
  </property>
  <property fmtid="{D5CDD505-2E9C-101B-9397-08002B2CF9AE}" pid="4" name="PresentationFormat">
    <vt:lpwstr>全屏显示(16:9)</vt:lpwstr>
  </property>
  <property fmtid="{D5CDD505-2E9C-101B-9397-08002B2CF9AE}" pid="5" name="Slides">
    <vt:r8>11</vt:r8>
  </property>
</Properties>
</file>