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5EB5-64AB-49F3-969F-0132A13F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311-75B9-4DC2-BF25-CB727BF5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080A-519D-48AE-902F-01F57C5B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F1E-069F-4E75-A827-4B0685BB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C08-B6D9-4802-B973-69FD3018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92D-8394-48C9-B3F8-699159E5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C0C-68DC-4AA3-9A22-0F7E5F25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A7A-5F44-428A-A109-0C44CFBF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FEA-5F4E-449C-BD89-5C811692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4B2-513D-47AA-B4E2-49F838A3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929-1F2F-441F-8C90-B0402659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32E-12E6-42C7-8C01-1A5BF3EF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6F1AC7-5C0C-494B-BE0A-5C0774D8AA59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7480" y="509040"/>
            <a:ext cx="3993120" cy="37332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第</a:t>
            </a:r>
            <a:r>
              <a:rPr b="1" lang="en-US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23</a:t>
            </a: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4873680" y="2258640"/>
            <a:ext cx="426996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祖先的摇篮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5932080" y="774720"/>
            <a:ext cx="21531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语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二年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配人教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F:\PPT课件\207\祖先的摇篮\timg.jpg"/>
          <p:cNvPicPr/>
          <p:nvPr/>
        </p:nvPicPr>
        <p:blipFill>
          <a:blip r:embed="rId1"/>
          <a:stretch/>
        </p:blipFill>
        <p:spPr>
          <a:xfrm>
            <a:off x="177480" y="1344960"/>
            <a:ext cx="4695840" cy="2504160"/>
          </a:xfrm>
          <a:prstGeom prst="rect">
            <a:avLst/>
          </a:prstGeom>
          <a:ln w="0">
            <a:noFill/>
          </a:ln>
        </p:spPr>
      </p:pic>
      <p:sp>
        <p:nvSpPr>
          <p:cNvPr id="46" name="矩形 6"/>
          <p:cNvSpPr/>
          <p:nvPr/>
        </p:nvSpPr>
        <p:spPr>
          <a:xfrm>
            <a:off x="0" y="428148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4"/>
          <p:cNvSpPr/>
          <p:nvPr/>
        </p:nvSpPr>
        <p:spPr>
          <a:xfrm>
            <a:off x="1116720" y="879480"/>
            <a:ext cx="16704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ā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1407960" y="170100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7"/>
          <p:cNvSpPr/>
          <p:nvPr/>
        </p:nvSpPr>
        <p:spPr>
          <a:xfrm>
            <a:off x="4062240" y="1986120"/>
            <a:ext cx="490464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掏洞）（掏钱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他经常上树掏鸟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749160" y="1985400"/>
            <a:ext cx="2944080" cy="2765880"/>
            <a:chOff x="749160" y="1985400"/>
            <a:chExt cx="2944080" cy="2765880"/>
          </a:xfrm>
        </p:grpSpPr>
        <p:sp>
          <p:nvSpPr>
            <p:cNvPr id="112" name="Line 4"/>
            <p:cNvSpPr/>
            <p:nvPr/>
          </p:nvSpPr>
          <p:spPr>
            <a:xfrm>
              <a:off x="749160" y="336852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13" name="Group 5"/>
            <p:cNvGrpSpPr/>
            <p:nvPr/>
          </p:nvGrpSpPr>
          <p:grpSpPr>
            <a:xfrm>
              <a:off x="749520" y="1985400"/>
              <a:ext cx="2943720" cy="2765880"/>
              <a:chOff x="749520" y="1985400"/>
              <a:chExt cx="2943720" cy="2765880"/>
            </a:xfrm>
          </p:grpSpPr>
          <p:sp>
            <p:nvSpPr>
              <p:cNvPr id="114" name="Rectangle 6"/>
              <p:cNvSpPr/>
              <p:nvPr/>
            </p:nvSpPr>
            <p:spPr>
              <a:xfrm>
                <a:off x="749520" y="198576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5" name="Line 7"/>
              <p:cNvSpPr/>
              <p:nvPr/>
            </p:nvSpPr>
            <p:spPr>
              <a:xfrm>
                <a:off x="2221200" y="198540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16" name="Rectangle 9"/>
          <p:cNvSpPr/>
          <p:nvPr/>
        </p:nvSpPr>
        <p:spPr>
          <a:xfrm>
            <a:off x="1265400" y="19634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"/>
          <p:cNvSpPr/>
          <p:nvPr/>
        </p:nvSpPr>
        <p:spPr>
          <a:xfrm>
            <a:off x="942840" y="19116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-13320" y="43920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4"/>
          <p:cNvSpPr/>
          <p:nvPr/>
        </p:nvSpPr>
        <p:spPr>
          <a:xfrm>
            <a:off x="447120" y="879480"/>
            <a:ext cx="2319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407960" y="170100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7"/>
          <p:cNvSpPr/>
          <p:nvPr/>
        </p:nvSpPr>
        <p:spPr>
          <a:xfrm>
            <a:off x="4028400" y="1963800"/>
            <a:ext cx="44247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鸡蛋）（鸭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今天我家的母鸡下了一个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742680" y="1970280"/>
            <a:ext cx="2944080" cy="2765880"/>
            <a:chOff x="742680" y="1970280"/>
            <a:chExt cx="2944080" cy="2765880"/>
          </a:xfrm>
        </p:grpSpPr>
        <p:sp>
          <p:nvSpPr>
            <p:cNvPr id="123" name="Line 4"/>
            <p:cNvSpPr/>
            <p:nvPr/>
          </p:nvSpPr>
          <p:spPr>
            <a:xfrm>
              <a:off x="742680" y="335340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24" name="Group 5"/>
            <p:cNvGrpSpPr/>
            <p:nvPr/>
          </p:nvGrpSpPr>
          <p:grpSpPr>
            <a:xfrm>
              <a:off x="742680" y="1970280"/>
              <a:ext cx="2943720" cy="2765880"/>
              <a:chOff x="742680" y="1970280"/>
              <a:chExt cx="2943720" cy="2765880"/>
            </a:xfrm>
          </p:grpSpPr>
          <p:sp>
            <p:nvSpPr>
              <p:cNvPr id="125" name="Rectangle 6"/>
              <p:cNvSpPr/>
              <p:nvPr/>
            </p:nvSpPr>
            <p:spPr>
              <a:xfrm>
                <a:off x="742680" y="197064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6" name="Line 7"/>
              <p:cNvSpPr/>
              <p:nvPr/>
            </p:nvSpPr>
            <p:spPr>
              <a:xfrm>
                <a:off x="2214720" y="197028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27" name="Rectangle 9"/>
          <p:cNvSpPr/>
          <p:nvPr/>
        </p:nvSpPr>
        <p:spPr>
          <a:xfrm>
            <a:off x="1265400" y="19634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"/>
          <p:cNvSpPr/>
          <p:nvPr/>
        </p:nvSpPr>
        <p:spPr>
          <a:xfrm>
            <a:off x="942840" y="19116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-13320" y="43920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4"/>
          <p:cNvSpPr/>
          <p:nvPr/>
        </p:nvSpPr>
        <p:spPr>
          <a:xfrm>
            <a:off x="280440" y="886680"/>
            <a:ext cx="2319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1407960" y="170100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7"/>
          <p:cNvSpPr/>
          <p:nvPr/>
        </p:nvSpPr>
        <p:spPr>
          <a:xfrm>
            <a:off x="3971160" y="1970640"/>
            <a:ext cx="44247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回忆）（记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童年的回忆中充满了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742680" y="1970280"/>
            <a:ext cx="2944080" cy="2765880"/>
            <a:chOff x="742680" y="1970280"/>
            <a:chExt cx="2944080" cy="2765880"/>
          </a:xfrm>
        </p:grpSpPr>
        <p:sp>
          <p:nvSpPr>
            <p:cNvPr id="134" name="Line 4"/>
            <p:cNvSpPr/>
            <p:nvPr/>
          </p:nvSpPr>
          <p:spPr>
            <a:xfrm>
              <a:off x="742680" y="335340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35" name="Group 5"/>
            <p:cNvGrpSpPr/>
            <p:nvPr/>
          </p:nvGrpSpPr>
          <p:grpSpPr>
            <a:xfrm>
              <a:off x="742680" y="1970280"/>
              <a:ext cx="2943720" cy="2765880"/>
              <a:chOff x="742680" y="1970280"/>
              <a:chExt cx="2943720" cy="2765880"/>
            </a:xfrm>
          </p:grpSpPr>
          <p:sp>
            <p:nvSpPr>
              <p:cNvPr id="136" name="Rectangle 6"/>
              <p:cNvSpPr/>
              <p:nvPr/>
            </p:nvSpPr>
            <p:spPr>
              <a:xfrm>
                <a:off x="742680" y="197064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7" name="Line 7"/>
              <p:cNvSpPr/>
              <p:nvPr/>
            </p:nvSpPr>
            <p:spPr>
              <a:xfrm>
                <a:off x="2214720" y="197028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38" name="Rectangle 9"/>
          <p:cNvSpPr/>
          <p:nvPr/>
        </p:nvSpPr>
        <p:spPr>
          <a:xfrm>
            <a:off x="1265400" y="19634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"/>
          <p:cNvSpPr/>
          <p:nvPr/>
        </p:nvSpPr>
        <p:spPr>
          <a:xfrm>
            <a:off x="942840" y="19116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-13320" y="43920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3"/>
          <p:cNvSpPr/>
          <p:nvPr/>
        </p:nvSpPr>
        <p:spPr>
          <a:xfrm>
            <a:off x="116640" y="-10836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231120" y="612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345240" y="12024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graphicFrame>
        <p:nvGraphicFramePr>
          <p:cNvPr id="144" name="表格 4"/>
          <p:cNvGraphicFramePr/>
          <p:nvPr/>
        </p:nvGraphicFramePr>
        <p:xfrm>
          <a:off x="686880" y="1761480"/>
          <a:ext cx="5618880" cy="1938960"/>
        </p:xfrm>
        <a:graphic>
          <a:graphicData uri="http://schemas.openxmlformats.org/drawingml/2006/table">
            <a:tbl>
              <a:tblPr/>
              <a:tblGrid>
                <a:gridCol w="352080"/>
                <a:gridCol w="2379960"/>
                <a:gridCol w="721440"/>
                <a:gridCol w="2164680"/>
              </a:tblGrid>
              <a:tr h="1938960">
                <a:tc>
                  <a:txBody>
                    <a:bodyPr lIns="51120" rIns="511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endParaRPr>
                    </a:p>
                  </a:txBody>
                  <a:tcPr anchor="ctr" marL="51120" marR="5112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endParaRPr>
                    </a:p>
                  </a:txBody>
                  <a:tcPr anchor="t" marL="51120" marR="5112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endParaRPr>
                    </a:p>
                  </a:txBody>
                  <a:tcPr anchor="ctr" marL="51120" marR="5112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endParaRPr>
                    </a:p>
                  </a:txBody>
                  <a:tcPr anchor="t" marL="51120" marR="5112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文本框 99"/>
          <p:cNvSpPr/>
          <p:nvPr/>
        </p:nvSpPr>
        <p:spPr>
          <a:xfrm>
            <a:off x="414720" y="1420920"/>
            <a:ext cx="8534880" cy="171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摇篮：比喻幼年或青年时代的生活环境或文化、运动等的发源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例句：天空是鸟儿的摇篮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遥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辽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长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例句：星星离我们很遥远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苍苍茫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无边无际、空阔辽远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模糊不清楚的样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例句：苍苍茫茫的大地上都是雪花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-13320" y="43920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词汇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14480" y="112680"/>
            <a:ext cx="138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48" name="太阳形 16"/>
          <p:cNvSpPr/>
          <p:nvPr/>
        </p:nvSpPr>
        <p:spPr>
          <a:xfrm>
            <a:off x="302040" y="1061640"/>
            <a:ext cx="685440" cy="685440"/>
          </a:xfrm>
          <a:prstGeom prst="sun">
            <a:avLst>
              <a:gd name="adj" fmla="val 16428"/>
            </a:avLst>
          </a:prstGeom>
          <a:gradFill rotWithShape="0">
            <a:gsLst>
              <a:gs pos="0">
                <a:srgbClr val="00642d"/>
              </a:gs>
              <a:gs pos="100000">
                <a:srgbClr val="e0ebfa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49" name="TextBox 17"/>
          <p:cNvSpPr/>
          <p:nvPr/>
        </p:nvSpPr>
        <p:spPr>
          <a:xfrm>
            <a:off x="1165320" y="1139400"/>
            <a:ext cx="2508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近反义词辨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116640" y="-10836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51" name="AutoShape 15"/>
          <p:cNvSpPr/>
          <p:nvPr/>
        </p:nvSpPr>
        <p:spPr>
          <a:xfrm>
            <a:off x="231120" y="612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52" name="AutoShape 17"/>
          <p:cNvSpPr/>
          <p:nvPr/>
        </p:nvSpPr>
        <p:spPr>
          <a:xfrm>
            <a:off x="345240" y="12024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53" name="文本框 99"/>
          <p:cNvSpPr/>
          <p:nvPr/>
        </p:nvSpPr>
        <p:spPr>
          <a:xfrm>
            <a:off x="301320" y="1623240"/>
            <a:ext cx="8770680" cy="171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近义词：浓绿——嫩绿      遮住——盖住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遥远——辽远     一望无边——一望无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辨析：遥远——辽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同：都可以指地方、路途等的长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异：“遥远”指很远；“辽远”指遥远。“遥远”还可指未来的理想、岁月前途等方面，如遥远的年代、遥远的未来。“辽远”无此用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例句：现在人类可以测算出遥远的星星在辽远的天空里到底有多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标题 1"/>
          <p:cNvSpPr/>
          <p:nvPr/>
        </p:nvSpPr>
        <p:spPr>
          <a:xfrm>
            <a:off x="-13320" y="43920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词汇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14480" y="112680"/>
            <a:ext cx="138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56" name="太阳形 16"/>
          <p:cNvSpPr/>
          <p:nvPr/>
        </p:nvSpPr>
        <p:spPr>
          <a:xfrm>
            <a:off x="302040" y="1061640"/>
            <a:ext cx="685440" cy="685440"/>
          </a:xfrm>
          <a:prstGeom prst="sun">
            <a:avLst>
              <a:gd name="adj" fmla="val 16428"/>
            </a:avLst>
          </a:prstGeom>
          <a:gradFill rotWithShape="0">
            <a:gsLst>
              <a:gs pos="0">
                <a:srgbClr val="00642d"/>
              </a:gs>
              <a:gs pos="100000">
                <a:srgbClr val="e0ebfa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57" name="TextBox 17"/>
          <p:cNvSpPr/>
          <p:nvPr/>
        </p:nvSpPr>
        <p:spPr>
          <a:xfrm>
            <a:off x="1165320" y="1139400"/>
            <a:ext cx="2508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近反义词辨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3"/>
          <p:cNvSpPr/>
          <p:nvPr/>
        </p:nvSpPr>
        <p:spPr>
          <a:xfrm>
            <a:off x="116640" y="-10836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59" name="AutoShape 15"/>
          <p:cNvSpPr/>
          <p:nvPr/>
        </p:nvSpPr>
        <p:spPr>
          <a:xfrm>
            <a:off x="231120" y="612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60" name="AutoShape 17"/>
          <p:cNvSpPr/>
          <p:nvPr/>
        </p:nvSpPr>
        <p:spPr>
          <a:xfrm>
            <a:off x="345240" y="12024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61" name="文本框 99"/>
          <p:cNvSpPr/>
          <p:nvPr/>
        </p:nvSpPr>
        <p:spPr>
          <a:xfrm>
            <a:off x="231120" y="1747440"/>
            <a:ext cx="8883720" cy="171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反义词：浓绿——鲜红    遥远——附近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遮住——暴露    一望无边——一衣带水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辨析：遥远——附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遥远：很远的地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附近：很近的地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例句：我们虽然住在附近，但是心离得很遥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标题 1"/>
          <p:cNvSpPr/>
          <p:nvPr/>
        </p:nvSpPr>
        <p:spPr>
          <a:xfrm>
            <a:off x="-13320" y="43920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词汇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3"/>
          <p:cNvSpPr/>
          <p:nvPr/>
        </p:nvSpPr>
        <p:spPr>
          <a:xfrm>
            <a:off x="59040" y="901800"/>
            <a:ext cx="90846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爷爷说：那原始森林是祖先的摇篮。真有意思，这是多大的摇篮啊！那浓绿的树荫一望无边，遮住了蓝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194040" y="3218760"/>
            <a:ext cx="84801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句话点明了祖先的摇篮是指原始森林，并具体说明了祖先的摇篮是什么样子的。抓住句子中的“大” “一望无边”和“浓绿”三个词语，体会祖先摇篮的大和绿的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-13320" y="43920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句段导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-13320" y="891720"/>
            <a:ext cx="90846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们的祖先，可曾在这些大树上，摘野果，掏鹊蛋？可曾在那片草地上和野兔赛跑，看蘑菇打伞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25720" y="2706120"/>
            <a:ext cx="84801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句话写出了我们的祖先在摇篮里都做了什么。抓住“摘”“掏”“赛跑”“看”等一系列动词，想象我们的祖先在摇篮里还能做些什么，进行想象说话，培养学生的口语表达能力，激发学生的学习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标题 1"/>
          <p:cNvSpPr/>
          <p:nvPr/>
        </p:nvSpPr>
        <p:spPr>
          <a:xfrm>
            <a:off x="-13320" y="43920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句段导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3"/>
          <p:cNvSpPr/>
          <p:nvPr/>
        </p:nvSpPr>
        <p:spPr>
          <a:xfrm>
            <a:off x="310680" y="891720"/>
            <a:ext cx="87606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那回忆多么美好，又那么遥远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150120" y="2354400"/>
            <a:ext cx="84801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句话要抓住“美好”和“遥远”两个词语去体会。“美好”是因为过去的原始森林没有被破坏，“遥远”是这这一切美好都是过去的事情了。现在的原始森林被人类破坏了，呼吁同学们保护环境，人人有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标题 1"/>
          <p:cNvSpPr/>
          <p:nvPr/>
        </p:nvSpPr>
        <p:spPr>
          <a:xfrm>
            <a:off x="150120" y="26604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句段导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116640" y="-10836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231120" y="612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0" y="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114480" y="11448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76" name="标题 1"/>
          <p:cNvSpPr/>
          <p:nvPr/>
        </p:nvSpPr>
        <p:spPr>
          <a:xfrm>
            <a:off x="459720" y="43524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课后习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"/>
          <p:cNvSpPr/>
          <p:nvPr/>
        </p:nvSpPr>
        <p:spPr>
          <a:xfrm>
            <a:off x="114480" y="3225240"/>
            <a:ext cx="772200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【参考答案】摇篮    浓绿    遥远    祖先    苍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"/>
          <p:cNvSpPr/>
          <p:nvPr/>
        </p:nvSpPr>
        <p:spPr>
          <a:xfrm>
            <a:off x="348480" y="1292400"/>
            <a:ext cx="8795160" cy="61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读拼音，写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áolán   nónglǜ  yáoyuǎn  zǔxiān  cāngmá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1"/>
          <p:cNvSpPr/>
          <p:nvPr/>
        </p:nvSpPr>
        <p:spPr>
          <a:xfrm>
            <a:off x="763560" y="951120"/>
            <a:ext cx="441432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爷爷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那原始森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是我们祖先的摇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真有意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这是多大的摇篮啊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一望无边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那浓绿的树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遮住了蓝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标题 1"/>
          <p:cNvSpPr/>
          <p:nvPr/>
        </p:nvSpPr>
        <p:spPr>
          <a:xfrm>
            <a:off x="-13320" y="43920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走进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7"/>
          <p:cNvSpPr/>
          <p:nvPr/>
        </p:nvSpPr>
        <p:spPr>
          <a:xfrm>
            <a:off x="5148720" y="951840"/>
            <a:ext cx="3939840" cy="22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们的祖先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可曾在这些大树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摘野果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掏鹊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可曾在那片草地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和野兔赛跑，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看蘑菇打伞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116640" y="-10836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231120" y="612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0" y="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114480" y="11448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83" name="文本框 2"/>
          <p:cNvSpPr/>
          <p:nvPr/>
        </p:nvSpPr>
        <p:spPr>
          <a:xfrm>
            <a:off x="345240" y="955800"/>
            <a:ext cx="8317440" cy="1531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比一比，组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始（　　）    思（　　）　 忆（　）    远（   ）   祖（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抬（　　）    想（　　）　 亿（　）    院（   ）   组（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【参考答案】开始  抬头；思念  想象；回忆  一亿；远处  院子；祖先  组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标题 1"/>
          <p:cNvSpPr/>
          <p:nvPr/>
        </p:nvSpPr>
        <p:spPr>
          <a:xfrm>
            <a:off x="114480" y="29520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课后习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文本框 1"/>
          <p:cNvSpPr/>
          <p:nvPr/>
        </p:nvSpPr>
        <p:spPr>
          <a:xfrm>
            <a:off x="186120" y="1091880"/>
            <a:ext cx="8443080" cy="26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连线组字并用字组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女     相      台      心       忄   艹     乙   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       ）      （      ）    （      ）   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【参考答案】始  开始；想  想象；忆  回忆；荫  树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标题 1"/>
          <p:cNvSpPr/>
          <p:nvPr/>
        </p:nvSpPr>
        <p:spPr>
          <a:xfrm>
            <a:off x="123840" y="25740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课后习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1"/>
          <p:cNvSpPr/>
          <p:nvPr/>
        </p:nvSpPr>
        <p:spPr>
          <a:xfrm>
            <a:off x="398880" y="1331640"/>
            <a:ext cx="844308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填上合适的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       ）的树荫      （       ）的草地      （          ）的松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       ）野果         （       ）鹊蛋          （          ）野蔷薇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【参考答案】浓绿  一望无边  可爱；摘   掏  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标题 1"/>
          <p:cNvSpPr/>
          <p:nvPr/>
        </p:nvSpPr>
        <p:spPr>
          <a:xfrm>
            <a:off x="123840" y="25200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课后习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文本框 1"/>
          <p:cNvSpPr/>
          <p:nvPr/>
        </p:nvSpPr>
        <p:spPr>
          <a:xfrm>
            <a:off x="292680" y="831960"/>
            <a:ext cx="844308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根据课文内容填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文中“祖先的摇篮”指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我们的祖先在他们的摇篮里干些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标题 1"/>
          <p:cNvSpPr/>
          <p:nvPr/>
        </p:nvSpPr>
        <p:spPr>
          <a:xfrm>
            <a:off x="226440" y="25200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课后习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99"/>
          <p:cNvSpPr/>
          <p:nvPr/>
        </p:nvSpPr>
        <p:spPr>
          <a:xfrm>
            <a:off x="292680" y="3463560"/>
            <a:ext cx="844308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【参考答案】 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祖先的摇篮是指原始森林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摘野果、掏鹊蛋、和野兔赛跑、看蘑菇打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624960" y="1029600"/>
            <a:ext cx="3533400" cy="22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那时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孩子们也在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逗小松鼠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采野蔷薇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也在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捉红蜻蜓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逮绿蝈蝈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4916160" y="1296360"/>
            <a:ext cx="16365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风儿吹动树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“沙沙，沙沙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那回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多么美好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又那么遥远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标题 1"/>
          <p:cNvSpPr/>
          <p:nvPr/>
        </p:nvSpPr>
        <p:spPr>
          <a:xfrm>
            <a:off x="-13320" y="43920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走进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2"/>
          <p:cNvSpPr/>
          <p:nvPr/>
        </p:nvSpPr>
        <p:spPr>
          <a:xfrm>
            <a:off x="559440" y="1415880"/>
            <a:ext cx="44769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啊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苍苍茫茫的原始森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我们祖先的摇篮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标题 1"/>
          <p:cNvSpPr/>
          <p:nvPr/>
        </p:nvSpPr>
        <p:spPr>
          <a:xfrm>
            <a:off x="-13320" y="43920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走进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0"/>
          <p:cNvSpPr/>
          <p:nvPr/>
        </p:nvSpPr>
        <p:spPr>
          <a:xfrm>
            <a:off x="3995640" y="1986120"/>
            <a:ext cx="521568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（祖父）（祖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造句：我们要继承祖先的优良传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14480" y="902160"/>
            <a:ext cx="27018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749160" y="1985400"/>
            <a:ext cx="2944080" cy="2765880"/>
            <a:chOff x="749160" y="1985400"/>
            <a:chExt cx="2944080" cy="2765880"/>
          </a:xfrm>
        </p:grpSpPr>
        <p:sp>
          <p:nvSpPr>
            <p:cNvPr id="58" name="Line 4"/>
            <p:cNvSpPr/>
            <p:nvPr/>
          </p:nvSpPr>
          <p:spPr>
            <a:xfrm>
              <a:off x="749160" y="336852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59" name="Group 5"/>
            <p:cNvGrpSpPr/>
            <p:nvPr/>
          </p:nvGrpSpPr>
          <p:grpSpPr>
            <a:xfrm>
              <a:off x="749520" y="1985400"/>
              <a:ext cx="2943720" cy="2765880"/>
              <a:chOff x="749520" y="1985400"/>
              <a:chExt cx="2943720" cy="2765880"/>
            </a:xfrm>
          </p:grpSpPr>
          <p:sp>
            <p:nvSpPr>
              <p:cNvPr id="60" name="Rectangle 6"/>
              <p:cNvSpPr/>
              <p:nvPr/>
            </p:nvSpPr>
            <p:spPr>
              <a:xfrm>
                <a:off x="749520" y="198576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61" name="Line 7"/>
              <p:cNvSpPr/>
              <p:nvPr/>
            </p:nvSpPr>
            <p:spPr>
              <a:xfrm>
                <a:off x="2221200" y="198540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62" name="文本框 2"/>
          <p:cNvSpPr/>
          <p:nvPr/>
        </p:nvSpPr>
        <p:spPr>
          <a:xfrm>
            <a:off x="1026360" y="21240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标题 1"/>
          <p:cNvSpPr/>
          <p:nvPr/>
        </p:nvSpPr>
        <p:spPr>
          <a:xfrm>
            <a:off x="-13320" y="43920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4"/>
          <p:cNvSpPr/>
          <p:nvPr/>
        </p:nvSpPr>
        <p:spPr>
          <a:xfrm>
            <a:off x="576360" y="994320"/>
            <a:ext cx="17283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1407960" y="16088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1236240" y="166032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37"/>
          <p:cNvSpPr/>
          <p:nvPr/>
        </p:nvSpPr>
        <p:spPr>
          <a:xfrm>
            <a:off x="4035600" y="1986120"/>
            <a:ext cx="500184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啊哈）（啊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今天的天气真好啊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749160" y="1985400"/>
            <a:ext cx="2944080" cy="2765880"/>
            <a:chOff x="749160" y="1985400"/>
            <a:chExt cx="2944080" cy="2765880"/>
          </a:xfrm>
        </p:grpSpPr>
        <p:sp>
          <p:nvSpPr>
            <p:cNvPr id="69" name="Line 4"/>
            <p:cNvSpPr/>
            <p:nvPr/>
          </p:nvSpPr>
          <p:spPr>
            <a:xfrm>
              <a:off x="749160" y="336852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70" name="Group 5"/>
            <p:cNvGrpSpPr/>
            <p:nvPr/>
          </p:nvGrpSpPr>
          <p:grpSpPr>
            <a:xfrm>
              <a:off x="749520" y="1985400"/>
              <a:ext cx="2943720" cy="2765880"/>
              <a:chOff x="749520" y="1985400"/>
              <a:chExt cx="2943720" cy="2765880"/>
            </a:xfrm>
          </p:grpSpPr>
          <p:sp>
            <p:nvSpPr>
              <p:cNvPr id="71" name="Rectangle 6"/>
              <p:cNvSpPr/>
              <p:nvPr/>
            </p:nvSpPr>
            <p:spPr>
              <a:xfrm>
                <a:off x="749520" y="198576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72" name="Line 7"/>
              <p:cNvSpPr/>
              <p:nvPr/>
            </p:nvSpPr>
            <p:spPr>
              <a:xfrm>
                <a:off x="2221200" y="198540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73" name="文本框 2"/>
          <p:cNvSpPr/>
          <p:nvPr/>
        </p:nvSpPr>
        <p:spPr>
          <a:xfrm>
            <a:off x="952200" y="190116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标题 1"/>
          <p:cNvSpPr/>
          <p:nvPr/>
        </p:nvSpPr>
        <p:spPr>
          <a:xfrm>
            <a:off x="-13320" y="43920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4"/>
          <p:cNvSpPr/>
          <p:nvPr/>
        </p:nvSpPr>
        <p:spPr>
          <a:xfrm>
            <a:off x="901440" y="902160"/>
            <a:ext cx="26395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ó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407960" y="16088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236240" y="166032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7"/>
          <p:cNvSpPr/>
          <p:nvPr/>
        </p:nvSpPr>
        <p:spPr>
          <a:xfrm>
            <a:off x="3887640" y="1986120"/>
            <a:ext cx="525600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浓茶）（浓厚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他长着浓浓的眉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3"/>
          <p:cNvGrpSpPr/>
          <p:nvPr/>
        </p:nvGrpSpPr>
        <p:grpSpPr>
          <a:xfrm>
            <a:off x="749160" y="1985400"/>
            <a:ext cx="2944080" cy="2765880"/>
            <a:chOff x="749160" y="1985400"/>
            <a:chExt cx="2944080" cy="2765880"/>
          </a:xfrm>
        </p:grpSpPr>
        <p:sp>
          <p:nvSpPr>
            <p:cNvPr id="80" name="Line 4"/>
            <p:cNvSpPr/>
            <p:nvPr/>
          </p:nvSpPr>
          <p:spPr>
            <a:xfrm>
              <a:off x="749160" y="336852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81" name="Group 5"/>
            <p:cNvGrpSpPr/>
            <p:nvPr/>
          </p:nvGrpSpPr>
          <p:grpSpPr>
            <a:xfrm>
              <a:off x="749520" y="1985400"/>
              <a:ext cx="2943720" cy="2765880"/>
              <a:chOff x="749520" y="1985400"/>
              <a:chExt cx="2943720" cy="2765880"/>
            </a:xfrm>
          </p:grpSpPr>
          <p:sp>
            <p:nvSpPr>
              <p:cNvPr id="82" name="Rectangle 6"/>
              <p:cNvSpPr/>
              <p:nvPr/>
            </p:nvSpPr>
            <p:spPr>
              <a:xfrm>
                <a:off x="749520" y="198576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83" name="Line 7"/>
              <p:cNvSpPr/>
              <p:nvPr/>
            </p:nvSpPr>
            <p:spPr>
              <a:xfrm>
                <a:off x="2221200" y="198540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84" name="文本框 2"/>
          <p:cNvSpPr/>
          <p:nvPr/>
        </p:nvSpPr>
        <p:spPr>
          <a:xfrm>
            <a:off x="942840" y="19116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标题 1"/>
          <p:cNvSpPr/>
          <p:nvPr/>
        </p:nvSpPr>
        <p:spPr>
          <a:xfrm>
            <a:off x="-13320" y="43920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4"/>
          <p:cNvSpPr/>
          <p:nvPr/>
        </p:nvSpPr>
        <p:spPr>
          <a:xfrm>
            <a:off x="749520" y="902160"/>
            <a:ext cx="27853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à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407960" y="170100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7"/>
          <p:cNvSpPr/>
          <p:nvPr/>
        </p:nvSpPr>
        <p:spPr>
          <a:xfrm>
            <a:off x="4039560" y="1986120"/>
            <a:ext cx="44247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望见）（看望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我希望自己期末考个好成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749160" y="1985400"/>
            <a:ext cx="2944080" cy="2765880"/>
            <a:chOff x="749160" y="1985400"/>
            <a:chExt cx="2944080" cy="2765880"/>
          </a:xfrm>
        </p:grpSpPr>
        <p:sp>
          <p:nvSpPr>
            <p:cNvPr id="90" name="Line 4"/>
            <p:cNvSpPr/>
            <p:nvPr/>
          </p:nvSpPr>
          <p:spPr>
            <a:xfrm>
              <a:off x="749160" y="336852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749520" y="1985400"/>
              <a:ext cx="2943720" cy="2765880"/>
              <a:chOff x="749520" y="1985400"/>
              <a:chExt cx="2943720" cy="2765880"/>
            </a:xfrm>
          </p:grpSpPr>
          <p:sp>
            <p:nvSpPr>
              <p:cNvPr id="92" name="Rectangle 6"/>
              <p:cNvSpPr/>
              <p:nvPr/>
            </p:nvSpPr>
            <p:spPr>
              <a:xfrm>
                <a:off x="749520" y="198576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2221200" y="198540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94" name="Rectangle 9"/>
          <p:cNvSpPr/>
          <p:nvPr/>
        </p:nvSpPr>
        <p:spPr>
          <a:xfrm>
            <a:off x="1265400" y="19634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"/>
          <p:cNvSpPr/>
          <p:nvPr/>
        </p:nvSpPr>
        <p:spPr>
          <a:xfrm>
            <a:off x="942840" y="19116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-13320" y="43920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4"/>
          <p:cNvSpPr/>
          <p:nvPr/>
        </p:nvSpPr>
        <p:spPr>
          <a:xfrm>
            <a:off x="1231920" y="879480"/>
            <a:ext cx="18460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hā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407960" y="170100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7"/>
          <p:cNvSpPr/>
          <p:nvPr/>
        </p:nvSpPr>
        <p:spPr>
          <a:xfrm>
            <a:off x="4028400" y="1963800"/>
            <a:ext cx="44247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采摘）（摘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秋天来了，我们一起去摘苹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749160" y="1985400"/>
            <a:ext cx="2944080" cy="2765880"/>
            <a:chOff x="749160" y="1985400"/>
            <a:chExt cx="2944080" cy="2765880"/>
          </a:xfrm>
        </p:grpSpPr>
        <p:sp>
          <p:nvSpPr>
            <p:cNvPr id="101" name="Line 4"/>
            <p:cNvSpPr/>
            <p:nvPr/>
          </p:nvSpPr>
          <p:spPr>
            <a:xfrm>
              <a:off x="749160" y="336852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02" name="Group 5"/>
            <p:cNvGrpSpPr/>
            <p:nvPr/>
          </p:nvGrpSpPr>
          <p:grpSpPr>
            <a:xfrm>
              <a:off x="749520" y="1985400"/>
              <a:ext cx="2943720" cy="2765880"/>
              <a:chOff x="749520" y="1985400"/>
              <a:chExt cx="2943720" cy="2765880"/>
            </a:xfrm>
          </p:grpSpPr>
          <p:sp>
            <p:nvSpPr>
              <p:cNvPr id="103" name="Rectangle 6"/>
              <p:cNvSpPr/>
              <p:nvPr/>
            </p:nvSpPr>
            <p:spPr>
              <a:xfrm>
                <a:off x="749520" y="198576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04" name="Line 7"/>
              <p:cNvSpPr/>
              <p:nvPr/>
            </p:nvSpPr>
            <p:spPr>
              <a:xfrm>
                <a:off x="2221200" y="198540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05" name="Rectangle 9"/>
          <p:cNvSpPr/>
          <p:nvPr/>
        </p:nvSpPr>
        <p:spPr>
          <a:xfrm>
            <a:off x="1265400" y="19634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"/>
          <p:cNvSpPr/>
          <p:nvPr/>
        </p:nvSpPr>
        <p:spPr>
          <a:xfrm>
            <a:off x="942840" y="19116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标题 1"/>
          <p:cNvSpPr/>
          <p:nvPr/>
        </p:nvSpPr>
        <p:spPr>
          <a:xfrm>
            <a:off x="-13320" y="439200"/>
            <a:ext cx="2011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  <Words>1214</Words>
  <Paragraphs>17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08:03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12-13T06:18:08Z</dcterms:modified>
  <cp:revision>46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098</vt:lpwstr>
  </property>
  <property fmtid="{D5CDD505-2E9C-101B-9397-08002B2CF9AE}" pid="3" name="Notes">
    <vt:r8>1</vt:r8>
  </property>
  <property fmtid="{D5CDD505-2E9C-101B-9397-08002B2CF9AE}" pid="4" name="PresentationFormat">
    <vt:lpwstr>全屏显示(16:9)</vt:lpwstr>
  </property>
  <property fmtid="{D5CDD505-2E9C-101B-9397-08002B2CF9AE}" pid="5" name="Slides">
    <vt:r8>24</vt:r8>
  </property>
</Properties>
</file>